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F31F-F62B-4FBC-A920-1BC72F8A977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C2B-F3E9-4ECF-8FDD-0B80BA9CE1AB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7A0C-7FBE-4DB6-8F50-F0180EFB90BF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2AC-0886-4507-8314-5D07DA969B1B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597F-EF21-4109-B053-53339514A0C7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9B57-7DE4-46AC-8A7F-C2A3B33CA78D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7BA6-142F-42F4-BFE4-6B26FDC19D5C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2B4-B0DB-4707-B6CA-8728B7B2FCC8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B96D-BA2A-4A49-8781-80DFD8F0787C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4A09-A343-4D6D-A017-0E1A911B7BF9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B3E-5076-42F0-AE43-8546ED8339C5}" type="slidenum">
              <a:rPr b="0" lang="en-I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E24-B3CA-42D3-BA15-BF3843A9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DF7-4196-4F95-825B-CEA5FCA0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D2D-1F60-453F-8E58-5686EBD2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27E-1F98-49ED-A22F-DBBDF689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C5B3-1DAA-4714-AF9D-AF0AE51C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30A-040F-49CB-BF4C-0E11614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E3EE-D8CE-41DD-878E-A256895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08F5-0311-460A-A0DA-E9064A0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56D1-A3A5-4C01-9BAF-06346713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1BB8-740C-458D-9B51-DAF1D67E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93D9-A34E-415B-9D45-2CF6CEB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BF2-4D05-4103-8520-67819E18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544C-D7AB-4BCD-9DF8-B9E918B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B5B-C423-4F17-ABD8-B7B909F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2906-662A-4557-9E14-25A548A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9E5E-1762-458F-AB4A-B46BB97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7A34-0FC7-422A-9725-FF821ECB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0FD-5C4F-4935-8143-4E4A455C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914-1FEB-486D-BE17-86C860B1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173-9301-44F6-8B5E-D2D119DE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8D2-198D-4AD6-9968-814587D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D61-0D54-4804-9B19-C8962AD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6E6-DD4C-4605-9C57-33F29CFF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549-55F2-4A00-B232-98DF998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0BB8-AE51-49EE-B203-43C9470D527D}" type="slidenum">
              <a:rPr b="0" lang="en-IE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29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29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0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0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31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31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2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2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33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33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34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34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5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5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6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6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43A0-428F-4D2F-B093-A43C1BE6046A}" type="slidenum">
              <a:rPr b="0" lang="en-IE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outu.be/6EJWEXrykd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000" y="230040"/>
            <a:ext cx="48956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7200" spc="-1" strike="noStrike">
                <a:solidFill>
                  <a:srgbClr val="ffffff"/>
                </a:solidFill>
                <a:latin typeface="Verdana"/>
              </a:rPr>
              <a:t>Band Aid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71168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5400" spc="-1" strike="noStrike">
                <a:solidFill>
                  <a:srgbClr val="02376f"/>
                </a:solidFill>
                <a:latin typeface="Verdana"/>
              </a:rPr>
              <a:t>Do They Know It’s Christmas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2" descr="File:Feed The World Logo.GIF"/>
          <p:cNvPicPr/>
          <p:nvPr/>
        </p:nvPicPr>
        <p:blipFill>
          <a:blip r:embed="rId1"/>
          <a:stretch/>
        </p:blipFill>
        <p:spPr>
          <a:xfrm>
            <a:off x="2771640" y="1700280"/>
            <a:ext cx="2752920" cy="23716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Verdana"/>
              </a:rPr>
              <a:t>The original version of the Band Aid song can be viewed on YouTube he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youtu.be/6EJWEXrykdQ</a:t>
            </a:r>
            <a:r>
              <a:rPr b="1" lang="en-I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The year was 198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Television News reports were showing harrowing images of the starving children in Ethiop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Bob Geldof was a Dublin-born musician and lead singer of the band “The Boomtown Rats” who were very popular at th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was so moved and upset by the News reports from Ethiopia, that he decided to do something about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wrote the lyrics for a charity 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He contacted Midge Ure from the band Ultravox who wrote the melody and backing track for Geldof’s lyr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then contacted many of the most popular British and Irish performers of the time and persuaded them to give their time free to record the sing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decided to call this group of performers “Band Aid”. This had two mean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Band Aid was the name of a bandage, so the group was helping to heal the situation in Ethiop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The group was also a Band that was providing Aid to starving people in Ethiop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had use of a recording studio for free for just 24 hou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On 25 November 1984, the song was recorded and mix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44 performers sang on the 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The single was released on November 29th, 198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The song went straight to No. 1 in the UK Singles Ch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It sold a million copies in the first week al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It stayed at No. 1 for five weeks and was the Christmas No. 1 Single that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It became the highest selling single in the UK at the time, eventually selling three million cop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had promised that every penny raised would go to the char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But the British government refused to waive the tax on sales of the 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Geldof publicly stood up to the Prime Minister at the time, Margaret Thatch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Eventually, the government backed down and donated the tax back to the char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A new version of the song was recorded in 1989 under the name Band Aid 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It again reached No. 1 for Christmas raising more money for the char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It became the final No. 1 of the 1980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It was the final song to be played on Top of the Pops in the 1980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Verdana"/>
              </a:rPr>
              <a:t>Do They Know It’s Christma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Another version of the song was recorded in 2004 for the 20th anniversary of the original recording under the name Band Aid 2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Again the song went to No. 1 in the ch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Verdana"/>
              </a:rPr>
              <a:t>However, the original version of the song still remains the most pop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340000" y="6356520"/>
            <a:ext cx="40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Verdana"/>
                <a:ea typeface="Arial"/>
              </a:rPr>
              <a:t>© Nollaig Shona 2012 www.nollaigshona.i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9:29:29Z</dcterms:created>
  <dc:creator>Windows User</dc:creator>
  <dc:description/>
  <dc:language>en-US</dc:language>
  <cp:lastModifiedBy>Scoil Asicus</cp:lastModifiedBy>
  <dcterms:modified xsi:type="dcterms:W3CDTF">2013-12-04T13:58:23Z</dcterms:modified>
  <cp:revision>10</cp:revision>
  <dc:subject/>
  <dc:title>Band Aid</dc:title>
</cp:coreProperties>
</file>