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44C-5660-410C-914B-CC7DA09A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AEA-5764-466B-902B-826F38F5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84D-32B2-42DA-8C54-E2F13262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7DA-DEC3-469F-B5FF-3F9E3C9D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EEF-6A56-469D-A381-00682F59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147-C554-4F44-9080-95F4B089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571-2E33-4AA5-BB0C-5CFE10AF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632-4BC8-4DE9-9C45-64848777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3FD-11EF-4597-A5FF-2BE66945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F96-ED45-4726-AF46-6B125650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7BF-5958-44B4-AF3F-E0329065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506-71A2-4C91-A560-7C0FE9BF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E19A-04C5-4AE5-A49E-DBD9811C7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Round for Christmas M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ells ring out on Christmas m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ing, dong, ding, d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elling us that Christ was b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ing dong, Ding a ding d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wind is b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wind is blowing in Bethlehem 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star is shining in Bethlehen (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baby cries out in the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ear the angels s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ther tries to hold him t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oud the bell are r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ree wise men came to see the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ear the angels sin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ifts of gold and myrrh they b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oud the bells are r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King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kings long ago made a journey so slow to see a baby f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ir camels on hi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looked at the sk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star was shining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ling, travelling, travelling 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tar to guide them a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n Bethlehem t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three wise men f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 Jesus in the h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e three 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three kings of orient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aring gifts we traverse a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and fountai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or and mountai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ing yonder star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star of wonder, star of nigh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 with royal beauty brig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stward leading, st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ed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de us to thy perfect light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elch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n a King on Bethlehem's plai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ld I bring to crown Him 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g for ever, ceasing ne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us all to reign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(Cas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nkincense to offer have 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ense owns a Deity n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ayer and praising, all men rais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ship Him, God most high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althazar: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rrh is mi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s bitter perfume brea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ife of gathering glo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rrowing, sighing, bleeding, dy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led in the stone cold tomb.</a:t>
            </a:r>
            <a:br>
              <a:rPr sz="1400"/>
            </a:br>
            <a:br>
              <a:rPr sz="8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rious now behold Him aris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g and God and Sacrific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-le-lu-ia, al-le-lu-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ven to earth replie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Rudolph the red nose reind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udolph the red nose rein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ad a very shiny 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d if you ever saw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You would even say it g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ll of the other rein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sed to laugh and call him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y never let poor Rudol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Join in any reindeer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n one foggy Christmas 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anta came to s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udolph with your nose 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right, won’t you guide my sleigh tonight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n all the reindeer loved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d they shouted out in g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udolph the red nose reinde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You’ll go down in history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n the Bleak Mid Wi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bleak midwint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sty wind made mo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stood hard as i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like a st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 had fallen,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no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 on sn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bleak midwinter, long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God, heaven cannot hold hi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 earth susta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en and earth shall flee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he comes to reig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bleak midwinter a stabl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rd God Almighty, Jesus Chri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I give him, poor as I a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were a shepherd, I would bring a lam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were a Wise Man, I would do my 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t what I can I give him: give my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. Joy to the world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y to the wor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rd is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earth rece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every heart pre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m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eaven and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 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eaven and heaven and nature s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rules the world with truth and grace and makes the nation 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lories of his righte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onders of his love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onders wonders of his l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Frosty the snow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sty the snowman was a jolly happy so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 corn cob pipe and a button nose and two eyes made out of co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sty the snowman is a fairy tale they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was made of snow but the children know how he came to life one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must have been some magic in that old silk hat they fo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when they placed it on his head he began to dance arou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h Frosty the Snowman was alive as he could 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children say he could laugh and play just the same as you and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sty the snowman knew the sun was hot that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he said "Let's run and we'll have some fun now before I melt away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 to the village with a broom-stick in his h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here and there all around the square, sayin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atch me if you ca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led them down the streets of town right to the traffic c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he only paused a moment when he heard him holler "Stop!"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sty the snowman  had to hurry on his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he waved good-bye sayin'' "Don't you cry.  I'll be back again some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Silent n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ent night, holy 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s calm, all is b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 yon virgin mother and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infant so tender and m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p in heavenly pe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ep in heavenly pe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ent night, holy 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pherds quake at the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ries stream from heaven a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enly hosts sing allelu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 the saviour is b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 the saviour is b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ent night, holy nig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 of God, love’s pur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nt beams from thy holy fa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dawn of redeeming g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us Lord at thy birt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us Lord at thy bir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 Away in a m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y in a manger no crib for a b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ttle Lord Jesus lay down his sweet 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rs in the bright sky looked down where he l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ttle Lord Jesus asleep on the h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tle are lowing the baby aw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little Lord Jesus no crying he mak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ove thee Lord Jesus look down from the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tay by my bedside til morning is ni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near me Lord Jes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sk thee to st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by me fo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ove me I p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ss all the dear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y tender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t us for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ive with thee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 The first N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Noel the angels did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o certain poor shepherds in fields where they 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ields where th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 keeping their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cold winters night that was so d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el, noel, noel, n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s the king of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l looked up and saw a st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ing in the East, beyond them afa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o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ave great ligh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it continued, both day and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el, noel, noel, n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s the king of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Merry Christmas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’re going to have a Merry Christ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ime for gladness and che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n when it’s all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’ll look forward to a very happy new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Jingle B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horus: Jingle bel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shing through the s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 a one horse open sle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ver fields we 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aughing all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ells on bob 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king spirits br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at fun it is to ride and 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sleighing song to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1. The wind is b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wind is blowing in Bethlehem 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star is shining in Bethlehen (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baby cries out in the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ear the angels s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ther tries to hold him t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oud the bell are r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se men came to see the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ear the angels sin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ifts of gold and myrrh they b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oud the bells are r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Go tell it on the mou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Go tell it on the mount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ver the hills and everyw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Go tell it on the mountai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That Jesus Christ is bor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hile shepherds kept their wat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’er wand’ring flocks by n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ehold from out of heav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 shone a holy l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. And lo, when they had seen i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y all bowed down and pray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y travelled on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o where the babe was la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anta Clause is coming to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ou better watch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ou better not c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You better not pou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’m telling you wh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anta Clause is coming to 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’s making a li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’s checking it tw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’s gonn find out who’s naughty or 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anta Clause is coming to t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w sees you when you’re sleep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 knows when you’re awa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e knows if you’ve been bad or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o be good for goodness s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Angels we have he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s we have heard on high, sweetly singing o’er the 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mountains in reply echo back their joyous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lo-ria in excelsis deo (x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to Bethlehem and see him whose birth the angels 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adore on bended kn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 the Lord the new-born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lo-ria in excelsis deo (x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Come all ye faith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ome all ye faithful, Joyful and triumphant, O come ye, o come ye to Bethlehem. Come and behold Him, born the King of ang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ome let us adore Him, ( x 3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 the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 choirs of angels, sing in exult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 all ye citizens of heaven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ry to God, in the highe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ome let us adore Him, ( x 3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 the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0000"/>
                </a:solidFill>
                <a:latin typeface="Comic Sans MS"/>
              </a:rPr>
              <a:t>Do you have room? F maj(b flat) /3/4 tim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ontent Placeholder 6" descr=""/>
          <p:cNvPicPr/>
          <p:nvPr/>
        </p:nvPicPr>
        <p:blipFill>
          <a:blip r:embed="rId1"/>
          <a:stretch/>
        </p:blipFill>
        <p:spPr>
          <a:xfrm>
            <a:off x="317520" y="871560"/>
            <a:ext cx="85280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nd so this is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6" descr=""/>
          <p:cNvPicPr/>
          <p:nvPr/>
        </p:nvPicPr>
        <p:blipFill>
          <a:blip r:embed="rId1"/>
          <a:stretch/>
        </p:blipFill>
        <p:spPr>
          <a:xfrm>
            <a:off x="463680" y="822240"/>
            <a:ext cx="8242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Christmas isn’t Christ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Cho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Christmas isn’t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Til it happens in your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Somewhere deep inside you is where Christmas really st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So give your heart to Jesus you’ll discover if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That it’s Christmas , really Christmas fo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Jesus brings warmth like a winter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 light like a candle’s g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e’s waiting now to come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s he did so long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Jesus brings gifts of truth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So welcome Him with a song of 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nd when he comes you’ll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8. The Virgin Mary had a baby b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in Mary had a baby b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in Mary had a baby b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in Mary had a baby b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y say that his name is Je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 come from the Glor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 come from the Glorious Kingdom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 yes, believer, oh, yes, beli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 come from the Glor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 come from the Glorious Kingdom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els sang when the baby was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els sang when the baby was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els sang when the baby was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y sang that his name is Jesu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els sang when the baby was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els sang when the baby was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els sang when the baby was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y sang that his name is Jesu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hepherds came where the baby was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hepherds came where the baby was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hepherds came where the baby was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y say that his name is Je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ise men saw when the baby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ise men saw where the baby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ise men went where the baby bo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y said that his name is Jesu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found a manger in Bethleh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found a manger in Bethleh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in that manger in Bethleh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worshipped the child named Jesu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Chor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ary’s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orn in the night , Mary’s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long way from your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ming in need, Mary’s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orn in a borrowed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hristamas Bells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1200"/>
            </a:b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Key of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’  B  A  G  FE  DE  C,D 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’  B  A  G  FE  DE  C,-          (X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,-  C,-  C,-  C-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ilent Night  c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l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- BA  F-  A- B A 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’-  E’   C-  D’- D’ 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-  B  D’- C B  A- B A 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-  B  D’- C B  A- B A 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’- E’ G’- E’ C D’--- F’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 A F A-  G E D--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- GF  D-  F- G F  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-   G-  G-  F-  F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-  G  B- A G  F- G F D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-  G  B- A G  F- G F 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-  G  G- - F- -  A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 E D E- G G  F--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Joy to the world     C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’-  C B A- G F E D-    A B- B C-  C D’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’ D’ C B A A- GF  D’ D’ C B A A- G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 F F FG A-   GF  E E E F G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E  D D’- B A- GF    G  F  E  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6600ff"/>
                </a:solidFill>
                <a:latin typeface="Arial"/>
              </a:rPr>
              <a:t>Joy to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C’ B A G - FE  D  C,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G A -A B- B C’ 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C’ C’ B A GG  F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C’ C’ B A GG  F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 E E E F G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E  D D D E F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D C C’- AG FE  F E D C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</a:rPr>
              <a:t>B  B B B A C B B E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</a:rPr>
              <a:t>G G G G F  A G A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</a:rPr>
              <a:t>AB  C C B A  B G 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</a:rPr>
              <a:t>G G  F A  F  D E 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hristmas Bells</a:t>
            </a:r>
            <a:br>
              <a:rPr sz="1200"/>
            </a:b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Key of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’  C  B  A  GF  EF  DF 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’  C  B  A  GF  EF  D-          (X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-  D-  D-  D-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way in a Manger  C#  F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, D D EF  D D FG A A B G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F G G A F F DF  E B, D C,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, D D EF  D D FG A A B G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F G G A F F DF  E B,  C, D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Jingle B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 F F- FFF- FAD- EF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GG- FFF- FEE FE- 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 F F- FFF- FAD- 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GG- FFF- AGFE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armony for c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’ C’ B A (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 B B- A A A- C---- 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’ C’ B A (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 B B- A 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 A B C D’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F’ E’ D’ 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F’ E’ D’ B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 G’ F’ E’ C#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’ A’ G’ E’ F’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F’ E’ D’ A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’ F’ E’ D’ B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 G’ F’ 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’ A’ A’ 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’ G’F’ E’ D’-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child’s song of praise 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 na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’  B  D’  B  ABCA  B  G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’  B  D’  B  ABCA  G 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 A  C  C  B  B  D’  D’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 A  C  C  BABC D’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’  B  D’  B  ABCA  B  G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’  B  D’  B  ABCA  G 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 child’d song of praise 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ord accompan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GD’ together  x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A together 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G  together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A together 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G  together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GD’ together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A  together  x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G   X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ethlehem lay slee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ethehem lay sl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ng so long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winkling stars were pee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ng so long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hen to earth a baby c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little Jesus was his 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o long long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Kings came to adore hi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ng so long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w knelt down before hi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ng so long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andering shepherds left their sheep to see their lord aslee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o long long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gels sweetly si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ng so long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nt his praises ri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ng so long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ildren too their love may b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o him who came to be our 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o long long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First Noel   C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 E D- E F G 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CD’  C  B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CD’ C B A B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 A G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 E D- E F G 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CD’  C  B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CD’- C B A B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 A G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ED- EF G 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CB- B 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 C B A 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 A G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unday Mass  12</a:t>
            </a:r>
            <a:r>
              <a:rPr b="0" lang="en-IE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Dec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Opening: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ry will you take this baby boy? On chimes and tin whistles and vo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Psalm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y shepherd is the Lord ( Solo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himes to ac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Offertory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strumental: Bethlehem lay sleeping ( 3 girls in 5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n chimes &amp; glockenspiel &amp; Bells &amp; mara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Communion: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way in a m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ilent night – tin whis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Recess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e all ye faithful (vocal &amp; instrume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unday 13</a:t>
            </a:r>
            <a:r>
              <a:rPr b="0" lang="en-IE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 December 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Opening: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ry will you take this baby bo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Psalm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light of Christ (girls + Cho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Offertory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strumental: Bethlehem lay sleeping ( 3 girls in 5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n chimes &amp; glockenspi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Communion: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way in a m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ll the Nations of the earth(Caragh solo &amp; boys on tambour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Recess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e all ye faithful (vocal &amp; instrume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hristmas B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ng dong, ding dong, ring the happy Christmas b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ng dong, ding dong carols let us 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ng dong, ding dong Jesus came to earth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ng dong, ding dong, let the Church bells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ng, dong, 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M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will you take this baby boy? 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you fill the world with love and jo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you take this baby bo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will you go to the little town 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you find a manger to lay him d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you go to the little t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will you show your little son? 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kings on whom the star has sh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you show your little 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will you tell him we love him so? 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you tell him we would like to s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we love him love him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child’s song of pra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hildren, children, sing aloud your pra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hildren, children, sing aloud for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Jesus comes to earth on Christmas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ise Him, praise Him, every girl and b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e and worship at the crad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ke the shepherds long, so long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ise your voices in a happy chor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ing before the stable meek and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Little Don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onkey, little donkey on the dusty r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t to keep on plodding onwards with your precious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out those bells   tonight, Bethlehem, Bethle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at star tonight  Bethlehem, Bethle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n a long time little don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winter’s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give up now little don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hlehem’s in s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onkey, little donkey, had a bus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onkey carried Mary safely on her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 saw three 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 saw three ships come sailing in on Christmas Day, on Christmas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 saw three ships come sailing in , on Christmas Day in the mo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what was in those ships all three, on Christmas Day, on Christmas day? And what was in those ships all three, on Christmas day in the morn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Our Saviour Christ and his lady, on Christmas Day, on Christmas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Our Saviour Christ and his lady, on Christmas day in the mo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ray whither sailed those ships all three, on Christmas Day, on Christmas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ray whither sailed those ships all three, on Christmas Day in the morn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Oh they sailed into Bethlehem on Christmas Day, on Christmas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Oh they sailed into Bethlehem on Christmas Day in the mo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all the bells on earth shall ring, on Christmas Day, on Christmas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all the bells on earth shall ring, on Christmas Day in the mo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all the angels in heaven shall sing, on Christmas 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d all the souls on earth shall sing, on Christmas 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hen let us all rejoice amain! On Christmas Day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nus</cp:lastModifiedBy>
  <dcterms:modified xsi:type="dcterms:W3CDTF">2016-11-23T11:20:21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