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DD8-EBF1-4B4D-9872-8D29A2D0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301-8A57-40A6-A645-73CA8E2F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736-FA5F-445C-8894-7C7EA578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013-FACB-4CE4-8348-EBFC91D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7ADF-A5ED-4B84-863E-C571F7BC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77AA-F2F5-463F-A929-43337E7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95C6-BD24-47B7-9194-66A808A2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DA0-F463-437E-B9E2-C0864FED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AAE5-B4E1-410E-B430-D0ED03F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725E-CFB5-4E80-8942-DC8CEDAC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19EE-9E43-4EB4-9555-2D431D2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61F-46FC-444D-9B2F-3C1E3AD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1E2-2730-4CAD-AFFB-2F37E6E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685-E10B-4D4A-9BED-AB2265C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036-17EB-4F8A-9E78-D86268F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4E85-9028-4ACC-B12D-53E3BF97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430-EC7B-46D8-B3CD-A776EA0A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652D-5194-400D-AEE5-69C0250C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921A-D0E2-484B-A1A6-C341DF8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A8A6-BDBE-402F-8DB1-1FA4C3A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EE2C-B9EB-4797-8CCD-D44FC79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2B36-BE21-4EC7-8FAC-5F643893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ED3-D792-4EF2-9D82-CE7A81FF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495E-DB5E-44DA-9F26-40F9BDA6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321F-2122-4AA3-BD35-75B64CB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B883-B016-429C-8145-D33F92C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A314-116C-49BB-89BA-CD26F09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FADA-2895-41B6-8163-B1B58016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3692-2F84-48FD-B9F3-96082F7F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BA4E-97D6-43B7-A23D-8AE0026C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4E7-2AC2-448F-B4F4-1187D81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B73-8486-49FD-9A5E-2D8DAD8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B81-D24F-4F09-ACCC-180F5ED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205-AA2A-42EB-A719-F23E1EF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623-A0C4-4E7F-9CC2-7E8D98F3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A1A-DF5D-4895-9953-5E560C49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32EF-E4C0-4038-886F-71E1104291A6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5AE-A387-4B0B-AAEC-988C4405EA80}" type="slidenum"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677-5D04-431D-B281-03BE01C1550E}" type="slidenum">
              <a:rPr b="0" lang="en-IE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pperplate Gothic Bold"/>
              </a:rPr>
              <a:t>The Statue Of Liberty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63280" y="4292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 Donncha and Lu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8758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Statue of Liberty stands 151 feet (46 metres) in height, and 305 feet (93 metres) from the ground to the to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t was a gift from France, given to America in 18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re are copies of the Statue of Liberty found in Paris, Las Vegas and many other cities around the world and 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ors have to climb 354 steps to reach her cr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tatueofliberty220" descr="Statue of Liberty"/>
          <p:cNvPicPr/>
          <p:nvPr/>
        </p:nvPicPr>
        <p:blipFill>
          <a:blip r:embed="rId1"/>
          <a:stretch/>
        </p:blipFill>
        <p:spPr>
          <a:xfrm>
            <a:off x="1187280" y="0"/>
            <a:ext cx="63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902520"/>
            <a:ext cx="7497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island in which it stands was previously called Bedleo Island, but its name was changed in 1956 to Liberty Is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he was thought to have been hit around 600 lightening bolts every since she was built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statue has been closed for renovation a number of times, including between 1984 and 1986 when the torch was re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6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cost of building the statue and the stand it sits on amounted to over half a million dollars or over $10m in today’s mo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17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7624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wo images of the statue appear on a $10 b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IE" sz="2400" spc="-1" strike="noStrike" u="sng">
                <a:solidFill>
                  <a:srgbClr val="3333cc"/>
                </a:solidFill>
                <a:uFillTx/>
                <a:latin typeface="Arial"/>
              </a:rPr>
              <a:t>hea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f the statue was displayed at the world’s Fair in Paris in 18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New 5x7 Photo: Head of Statue of Liberty on Display in Paris"/>
          <p:cNvPicPr/>
          <p:nvPr/>
        </p:nvPicPr>
        <p:blipFill>
          <a:blip r:embed="rId1"/>
          <a:stretch/>
        </p:blipFill>
        <p:spPr>
          <a:xfrm>
            <a:off x="2556000" y="2205000"/>
            <a:ext cx="360036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92360" y="1916280"/>
            <a:ext cx="201600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715000" cy="388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27280" y="479736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4360" y="836640"/>
            <a:ext cx="820872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UESTION TIME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What is the name of the island that the statue is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what country was it a gift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How high does it 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6:56:54Z</dcterms:created>
  <dc:creator>edward</dc:creator>
  <dc:description/>
  <dc:language>en-US</dc:language>
  <cp:lastModifiedBy>edward</cp:lastModifiedBy>
  <dcterms:modified xsi:type="dcterms:W3CDTF">2013-12-12T21:36:44Z</dcterms:modified>
  <cp:revision>6</cp:revision>
  <dc:subject/>
  <dc:title>Slide 1</dc:title>
</cp:coreProperties>
</file>