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43A-A066-4030-BD4D-62494A5B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FE2-39AB-42F5-87EE-CF93EB41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C95-93F2-4D30-9CC3-EA8FFF9E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7BA-A261-4106-96A7-46836B20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BCC-6107-4A6E-A7F9-2ECAC59F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1CE-B11B-4F9B-B1A8-BFACACEC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D5E-34D4-4566-84A9-3E437E3F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B68-6348-4240-A0A3-B3641864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7B4-83D8-4E7B-B6C4-7F105C7F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891-12E7-4975-A986-4AE7CDA6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691-A12A-4EF9-A71F-E84D50E8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DAC-74DD-493B-97C9-AF4A93E9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6BD6-1AF8-4B58-B4EE-EF14604A5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.Stephen’s 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im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cGov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.Stephen died from the Jews hitting rocks  and stones at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t-stephen"/>
          <p:cNvPicPr/>
          <p:nvPr/>
        </p:nvPicPr>
        <p:blipFill>
          <a:blip r:embed="rId1"/>
          <a:stretch/>
        </p:blipFill>
        <p:spPr>
          <a:xfrm>
            <a:off x="2771640" y="2644920"/>
            <a:ext cx="453708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 did St.Stephan’s 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do my project on  this day because its my birthday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tStephenMartyr"/>
          <p:cNvPicPr/>
          <p:nvPr/>
        </p:nvPicPr>
        <p:blipFill>
          <a:blip r:embed="rId1"/>
          <a:stretch/>
        </p:blipFill>
        <p:spPr>
          <a:xfrm>
            <a:off x="971640" y="2708280"/>
            <a:ext cx="79930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You Will Lear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it is celeb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ays its on up till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trad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he d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 choose to do my festival on h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s </a:t>
            </a: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.Stephens day honours the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hristian martry, stoned to death after crucifix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ly if you are Christian you celebrate thi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’s the day after Christmas most people say its  the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ay of Christm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it is celebra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people in Ireland celebrate this day with their family or close friends. A group of boys called the Wren boys go from house to house and ask for money, to get food and drink for the Wren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its celebrated in Ita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Ita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 Stephen’s feast day is traditionally a day for many Italians to visit the Nativity scenes at the churches. Other events on St Stephen’s Day in different parts of Italy include markets, carnivals and festiva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its celebrated in Hung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 Hungary St.Stephens Day is celebrated on the 2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of August. They say its just another 4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of July for Hungary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ays its on up till 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ursday Dec 2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riday Dec 26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aturday Dec 26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201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nday Dec 26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20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uesday Dec 26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dnesday Dec 26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ursday Dec 26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201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aturday Dec 26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traditions in Ire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traditions in Ireland are: Candle in the wind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tional Gaelic Solutio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.Stephans Day Hunt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ditons all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rmany: they bake spiced cakes and make fruit dolls on Christmas and on St.Stephan’s Day and they spend time with their families and close friends too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4:34:25Z</dcterms:created>
  <dc:creator>Ibm Thinkpad</dc:creator>
  <dc:description/>
  <dc:language>en-US</dc:language>
  <cp:lastModifiedBy>user</cp:lastModifiedBy>
  <dcterms:modified xsi:type="dcterms:W3CDTF">2013-10-22T12:37:47Z</dcterms:modified>
  <cp:revision>5</cp:revision>
  <dc:subject/>
  <dc:title>St.Stephens Day</dc:title>
</cp:coreProperties>
</file>