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0.jpeg" ContentType="image/jpeg"/>
  <Override PartName="/ppt/media/image9.gif" ContentType="image/gif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2A0B-C641-4823-B6DA-902E5E5B5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IE" sz="900" spc="-1" strike="noStrike" u="sng">
                <a:solidFill>
                  <a:srgbClr val="000000"/>
                </a:solidFill>
                <a:uFillTx/>
                <a:latin typeface="Arial"/>
              </a:rPr>
              <a:t>BODY PERCUSSION</a:t>
            </a: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The body is also a very versatile instrument. We can use it to make several sounds. (JOKE! Participants laugh!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Here are some examples of sounds we can make using our bodies-(demonstrate by clapping, stamping, rubbing e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Can we think of any others? (click, mouth sounds, clapping in different way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000000"/>
                </a:solidFill>
                <a:latin typeface="Arial"/>
              </a:rPr>
              <a:t>Song with body percu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Now I’m going to sing a song for you which includes some body percussion</a:t>
            </a:r>
            <a:r>
              <a:rPr b="1" lang="en-IE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which means making sounds using our bod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900" spc="-1" strike="noStrike">
                <a:solidFill>
                  <a:srgbClr val="000000"/>
                </a:solidFill>
                <a:latin typeface="Arial"/>
              </a:rPr>
              <a:t>(from Flying around A&amp;C Blac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(Sing the song with actions for grou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(Show overhead displaying words of the song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(Teach the song by rote line by line with action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(Lead them through entire song with actions as many times as appropri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900" spc="-1" strike="noStrike">
                <a:solidFill>
                  <a:srgbClr val="000000"/>
                </a:solidFill>
                <a:latin typeface="Arial"/>
              </a:rPr>
              <a:t>(Ostinato is a repeated melodic or rhythmic pattern used as an accompaniment, but do not use the word ‘ostinato’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Divide group in two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Group A starts by doing the following ostina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Slap</a:t>
            </a: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Clap  Rest  Re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When group A has firmly established the ostinato Group B enters on cue </a:t>
            </a:r>
            <a:r>
              <a:rPr b="0" i="1" lang="en-IE" sz="900" spc="-1" strike="noStrike">
                <a:solidFill>
                  <a:srgbClr val="000000"/>
                </a:solidFill>
                <a:latin typeface="Arial"/>
              </a:rPr>
              <a:t>(from trainer), </a:t>
            </a: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performing the song and repeating a few tim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In this activity we have explored different ways of making sounds using our bodies –body percuss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860-F392-41BD-97F5-3009AE55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54F-CE4A-47AC-86FA-809A83C9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5B64-AFA7-403B-994D-071015FD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25F-8A41-4E52-815C-99AFA3D9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51DF-86A3-4BF0-84B0-697FDCE3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C44-3CCB-403B-B587-8B773D59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D7B-A3D3-4B26-BC16-64EE869B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4D1-FC3E-40FF-AFB0-E9284B18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79C-96F7-42DF-AF2D-D7527C61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E15-B594-44DB-9B50-49A66C1A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C3D-F452-42B3-B603-0EDAF4ED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463-E535-46BD-89C6-5020C82D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3EC7-DAE8-4956-92EB-80CED3476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s://www.google.ie/search?safe=strict&amp;rlz=1C1RNNN_enIE384&amp;q=Ruth+B&amp;stick=H4sIAAAAAAAAAONgVuLVT9c3NEyqsLDMKU8zAwAvoVcnEQAAAA&amp;sa=X&amp;ved=0ahUKEwif0dXSpo3SAhWCChoKHYluDn0QMQgeMAA" TargetMode="External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582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First you make your fingers </a:t>
            </a:r>
            <a:r>
              <a:rPr b="0" lang="en-IE" sz="3600" spc="-1" strike="noStrike">
                <a:solidFill>
                  <a:srgbClr val="ff0000"/>
                </a:solidFill>
                <a:latin typeface="Arial"/>
              </a:rPr>
              <a:t>click</a:t>
            </a:r>
            <a:br>
              <a:rPr sz="3600"/>
            </a:b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Then you </a:t>
            </a:r>
            <a:r>
              <a:rPr b="0" lang="en-IE" sz="3600" spc="-1" strike="noStrike">
                <a:solidFill>
                  <a:srgbClr val="ff0000"/>
                </a:solidFill>
                <a:latin typeface="Arial"/>
              </a:rPr>
              <a:t>stamp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your feet</a:t>
            </a:r>
            <a:br>
              <a:rPr sz="3600"/>
            </a:b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Both hands </a:t>
            </a:r>
            <a:r>
              <a:rPr b="0" lang="en-IE" sz="3600" spc="-1" strike="noStrike">
                <a:solidFill>
                  <a:srgbClr val="ff0000"/>
                </a:solidFill>
                <a:latin typeface="Arial"/>
              </a:rPr>
              <a:t>slap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your knees</a:t>
            </a:r>
            <a:br>
              <a:rPr sz="3600"/>
            </a:b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IE" sz="3600" spc="-1" strike="noStrike">
                <a:solidFill>
                  <a:srgbClr val="ff0000"/>
                </a:solidFill>
                <a:latin typeface="Arial"/>
              </a:rPr>
              <a:t>clap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on the beat</a:t>
            </a: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 Chord    F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20520" y="6237360"/>
            <a:ext cx="566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Strand: Listening and Responding       Strand Unit: Exploring Sounds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10000" y="6067440"/>
            <a:ext cx="84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Start note: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Mountaineer’s 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ow first you gaze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d then you climb, climb 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d then you walk walk walk walk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d then you run run run run run run run run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d then you wave wave wave wav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d then you shake, hands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d then you dream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(Singing Sherlock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084720" y="5084640"/>
            <a:ext cx="1133640" cy="1513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981000" cy="952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7236000" y="3500280"/>
            <a:ext cx="1749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akes of Slig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 Sligo thee, I now must leave, to part it’s  beauty I do gr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not forever I 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ll call again to Sli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oly Well I bid adi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azlewood and Cairns t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obernault that splendid view which adorns the lakes of Sli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 Lough Gill with its isles so grand where we often wandered hand in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 Summer’s evening by the strand along the lakes of Sli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at lake we often spent many’s the hour in swee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rom our boat sweet music went along the lakes of Sli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I think of Knocknarea with it’s honeyed cliffs hanging o’er the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till reminds me of the day I left my home in Sli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Sally Gard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er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 by the sally gardens my love and I did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passed the sally gardens with little snow white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bid me to take life easy as the leaves grow on the t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 was young and foolish with her did not ag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er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ield down by the river my love and I did 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n my leaning shoulder she laid her snow white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bid me to take life easy as the grass grows on the we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 was young and foolish and now I am full of t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reland’s 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e the day and come the hour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e the power and the gl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have come to answer our country's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the four proud provinces of Ire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reland, Ireland Together standing t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houlder to shou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'll answer Ireland's call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the mighty glens of Antrim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the rugged hills of Gal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the walls of Limerick and Dublin B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the four proud provinces of Irel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rts of steel and heads unbowing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wing never to be broken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will fight until we can fight no m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four proud provinces of Ireland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6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n's warriors, clad in emerald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fast souls confront their 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Neath the glass sky they as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four proud provinc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elan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he moved through the f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y young love said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y mother won’t m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my father won’t slight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or your lack of k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hen she stepped away from 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this she did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t will not be long l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il our wedding 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he stepped away from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she moved through the f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so fondly I watched 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ove here and move t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then she went home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ith one star aw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s the swan in the evening moves over the la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Last night she came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he came softly i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o softly she came 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er feet made no di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he laid her hand on 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this she did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t will not be long lo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il our wedding 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Parting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all the money that ere I ha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spent it in good compa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 all the harm that ere I've do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as was done to none but 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ll I've done for want of wi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memory now I cannot re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fill me to the parting g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night and joy be with you 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h, if I had money enough to sp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leisure time to sit awhile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is a fair maid in this 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o sorely has my heart beguiled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 rosy cheeks and ruby li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own she has my heart enthra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fill me to the parting g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night and joy be with you 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all the comrades that ere I’ve ha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are sorry for my going away,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of all the sweethearts that ere I’ve h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would wish me one more day to sta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since it falls unto my 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 should rise while you should not,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will gently rise and I'll softly cal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Goodnight and joy be with you all!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Star of the County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Near Banbridge Town in the County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One morning last Jul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rom a boreen green came a sweet coll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she smiled as she passed me b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he looked so sweet from her two bare f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o the sheen of her nut brown h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uch a coaxing elf, sure I shook my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or to see I was really t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rom Bantry Bay up to Derry Quay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rom Galway to Dublin Tow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No maid I've seen like the sweet coll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hat I met in the County Down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s she onward sped, sure I scratched my hea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I looked with a feelin' ra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I say's, say's I, to a passer-b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ho’s the maid with the nut brown hai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e smiled at me and he says, say's h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hat's the gem of Ireland's cr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t's Rosie McCann from the banks of the Ban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he’s the star of the County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ill you go Lasie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 the summer time is 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d the leaves are sweetly blo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d the wild mountain t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rows around the blooming h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ill you go Lassie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And we’ll all go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To pluck wild mountain t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All around the blooming h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Will you go Lassie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 will build my love a t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ar yon pure crystal f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d on it I will gr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ll the flowers of the m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ill you go Lassie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f my true love he wer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 would surely find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here the wild mountain thy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rows around the blooming h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ill you go Lassie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edonia"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originally by Dougie MacLean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 don't know if you can se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changes that have come over 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ese past few days I've been afrai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I might drift aw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've been telling old stories, singing so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make me think about where I've come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's the reason why I se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 far away today</a:t>
            </a:r>
            <a:br>
              <a:rPr sz="1200"/>
            </a:b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[Chorus:]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 me tell you that I love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I think about you all the t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edonia, you're calling me, now I'm going h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ut if I should become a strang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now that it would make me more than sa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edonia's been everything I've ever had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I have moved and I've kept on mov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ved the points that I needed prov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t the friends that I needed los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nd others on the w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 have kissed the fellas and left them sigh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olen dreams, yes, there's no den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 have traveled hard, sometimes with conscience fl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where with the wind</a:t>
            </a:r>
            <a:br>
              <a:rPr sz="1200"/>
            </a:b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[Chorus]</a:t>
            </a:r>
            <a:br>
              <a:rPr sz="1200"/>
            </a:b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I'm sitting here before the fi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mpty room,a forest choi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flames have cooled, don't get any hig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y've withered  now they've g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ut I'm steady thinking  my way is cle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d I know what I will do tomor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ands have shaken, the kisses flo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n I will disappear</a:t>
            </a:r>
            <a:br>
              <a:rPr sz="1200"/>
            </a:b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[Chorus]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edonia's been everything I've ever ha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edonia's been everything I've ever ha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edonia's been everything I've ever h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ong for Ireland 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onna Taggar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lking all the da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ar tall towers where falcons build their nes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ilver wings they fly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y know the call of freedom in their breast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w Black Head against the sk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twisted rocks they run down to the se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ving on your western shor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w summer sun sets, I asked for mor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 stood by your Atlantic Se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d  sang a song for Irel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alking all the day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ith true friends who try to make you stay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lling jokes and new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inging songs to pass the night away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tched the Galway salmon run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ke silver dancing, darting in the sun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ving on your western shor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w summer sunsets, I asked for mor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 stood by your Atlantic Se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d  sang a song for Irel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rinking all the day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 old pubs where fiddlers love to play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w one touch the bow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e played a reel that seamed so grand and gay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 stood on dingle beach and cast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 wild foam for Atlantic ba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ving on your western shor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w summer sunsets, I asked for mor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 stood by your Atlantic Se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d sang a song for Ireland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reaming in the night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 saw a land where no-one had to fight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king in your dawn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 saw you crying in the morning light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leeping where the falcons fly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y twist and turn all in your air-blue sky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ving on your western shor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w summer sunsets, I asked for mor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 stood by your Atlantic se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d  sang a song for Ireland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ody percus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133720"/>
            <a:ext cx="16002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666880" y="3885840"/>
            <a:ext cx="2743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410080" y="281916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o you love an ap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Do you love an ap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Do you love a p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Do you love a ladd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ith curly brown h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Oh still I love 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 can’t deny 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’ll go with him wherever he go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e stood at the cor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 fag in his m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wo hands in his po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e whistled me 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Oh still I love h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 can’t deny 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’ll go with him wherever he g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e gave me a hank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ts colour was b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Before I could use 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e tore it in 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Oh still I love 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 can’t deny 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’ll go with him wherever he go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here’s tea in the teap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bread on the sh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f you want any m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You can sing it your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till I love 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 can’t deny 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’ll go with him wherever he go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062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Magical B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me away for a year and a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 a boat on a rainbow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ere little folk meet with the stars at their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n a dazzling light moonb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h hand in hand with the magical b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way to fairyland d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nd dancing away from the worl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o the little ones when they’re slee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gether they come where the songbirds h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nd the wind is playing a t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luebells ring a lullaby 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y the light of the silver m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early bird brings on golden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sparkling drops of d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ll through the night making morning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nd sprinkling the raindrop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1935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P” is for Pad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s I went out one May mo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o take a pleasant wa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I sat me down near an old oak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or to hear two lovers tal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or to hear what they might say my d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o hear what they might 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So that I might learn a little more about l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Before I’d go aw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Chorus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P it stands for Paddy I supp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nd J for my love Joh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nd W stands for the false Willie-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But Johnny is the fairest 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Oh Johnny is the fairest one she s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Johnny is the fairest 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nd I don’t care what anybody s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Cause Johnny is the fairest 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Come sit you down on the grass he s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ogether on the gr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It’s been a long three quarters of a year or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Since together we have be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Since together we have been my l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ogether we have b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It’s been a long three quarters of a year or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Since together we have be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Chorus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No I’ll not come and sit with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Nor be a lover of th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or I hear you're in love with another pretty m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nd your heart’s no longer m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Oh your heart’s no longer mine she s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Your heart’s no longer 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or I hear you’re in love with another pretty m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nd your heart’s no longer 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eddy O Ne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I dreamt all last n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Oh bad 'cess to my drea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I'd die if I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'would come surely to p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I dreamt while the t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own my pillow were 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hat Teddy was courting another fair las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nd didn't I wake with a weeping and a wai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he pain in my heart was too deep to conc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My mother cried "Nora dear, what is your ailing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But all I could answer was Teddy O'Neill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I,ve  seen the old cabin beyond the wee bor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I’ve seen the old crossroads where we used to 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I ramble the lane where he called me his stoir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nd my girlish heart was so full of romance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But now all around  is so dark and so dre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ll dark and all silent, no piper, no r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Not even the sun through the casement shines che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Since I lost my darling love, Teddy O'Nei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I remember the day when the big ship was sai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nd the time it had come for my love to depa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How I cried like a child; oh goodbye to you Ted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With a tear on my cheek and a stone in my hea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He said t’was to better his fate he went roa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But what would be gold to the joy I would f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If he’d only come back to me tender and lovin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Yet poor but my own darling Teddy O’ Neil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Hannah loving Hann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went to church on Sunda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love, she passed me b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knew her mind was chang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roving of her ey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roving of her ey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roving of her ey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knew her mind was chang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roving of her ey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love is fair and handsom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 waist is neat and smal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she is quite good-look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at' s the best of al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at' s the best of al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at' s the best of al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she is quite good-look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at' s the best of all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h, Hannah, loving Hanna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e give to me your h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said that if you'd mar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 would be the o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 would be the o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 would be the o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said that if you‘d marr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 would be the on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will go down by the 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 everyone's asleep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'll think of loving Hanna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n lay down and weep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n lay down and weep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n lay down and weep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'll think of loving hanna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n lay down and weep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ockles and Mus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n Dublin's fair city - where the girls are so pretty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 first set my eyes on sweet Molly Malone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s she wheeled her wheelbarrow, through the streets broad and narrow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rying cockles and mussles alive,alive-oh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horus: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live,alive-oh.Alive,alive-oh.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rying cockles and mussles,alive,alive-oh.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34304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he was a fishmonger and sure 'twas no wonder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or so were her father and mother before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hey both wheeled their barrows through streets broad and narrow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rying cockles and mussles alive,alive-oh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he died of a fever and no one could save her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that was the end of sweet Molly Malone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But her ghost wheels her barrow through streets broad and narrow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rying cockles and mussles alive,alive-o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horus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600"/>
            </a:b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an you feel the love tonight?</a:t>
            </a: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IE" sz="4000" spc="-1" strike="noStrike">
                <a:solidFill>
                  <a:srgbClr val="000000"/>
                </a:solidFill>
                <a:latin typeface="Arial"/>
              </a:rPr>
              <a:t>The Lion 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I can see what's happening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nd they don't have a clue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hey'll fall in love and here's the botto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Our trio's down to two.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he sweet caress of twi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here's magic every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nd with all this romantic at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aster's in the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Chorus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Can you feel the love tonigh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he peace the evening b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he world for once in perfect harmo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With all its living th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So many things to tell 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But how to make her 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he truth about my past, im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She'd turn away from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He's holding back, he's hi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But what, I can't dec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Why won't he be the king I know he i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he king I see insid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Can you feel the love tonigh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he peace the evening b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he world for once in perfect harmo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With all its living th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Chorus change of ke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Can you feel the love tonigh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You needn't look too f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Stealing through the night's uncertain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Love is where they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And if he feels the love ton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It can be assu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In short our path is doo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mhrán na bhFia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ne Fianna Fái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á fé gheall ag Éirin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on dár slu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r toinn do ráinig chugain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é mhóid bheith sao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n tír ár sinsir feast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í fhagfar fé'n tiorán ná fé'n trái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cht a théam sa bhearna bhaoil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gean ar Ghaeil chun báis nó saoi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guna screach fé lámhach na bpiléa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o libh canaídh Amhrán na bhFiann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cht a théam sa bhearna bhaoil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gean ar Ghaeil chun báis nó saoi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guna screach fé lámhach na bpiléa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o libh canaídh Amhrán na bhFiann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t Boy 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uth B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was a time when I was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here to go and no place to call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y only friend was the man i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d even sometimes he would go away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n one night, as I closed my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 saw a shadow flying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came to me with the sweetest sm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ld me he wanted to talk for aw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said, "Peter Pan, that's what they call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 promise that you'll never be lonel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d ever since that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Chor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 am a lost boy from Nev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ually hanging out with Peter 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d when we're bored we play in the w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ways on the run from Captain H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un, run, lost boy, " they say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way from all of 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verland is home to lost boys like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d lost boys like me are free  (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0" y="11430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sprinkled me in pixie dust and told me to beli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lieve in him and believe in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gether we will fly away in a cloud of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 your beautiful desti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we soared above the town that never loved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 realized I finally had a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on enough we reached Nev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acefully my feet hit the 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d ever since that da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Choru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I am a lost boy 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sprinkled me in pixie dust and told me to beli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lieve in him and believe in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gether we will fly away in a cloud of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 your beautiful desti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we soared above the town that never love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 realized I finally had a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on enough we reached Nev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acefully my feet hit the 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d ever since that d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Choru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I am a lost boy 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Raglan R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Raglan Road of an autumn d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saw her first and k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her dark hair would weave a sn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I might one day 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saw the danger and I passed along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hanted wa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I said  let grief be a fallen leaf at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wning of the d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Grafton Street in November we trip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ghtly along the 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deep ravine where can be seen the 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passion's pled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Queen of Hearts still making t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I not making h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 I loved too much and by such by su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happiness thrown aw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gave her gifts of the m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gave her the secret 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's known to the artists who have kn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rue gods of sound and st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word and tint without stint 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gave her poems to s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her own name there and her own dark h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ke clouds over fields of M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a quiet street where old ghosts me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see her walking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way from me so hurried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 reason must a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I had loved not as I shou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reature made of cl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the angel woos the clay he'd lo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s wings at the dawn of the da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353440" cy="936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Rocky Mount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</a:rPr>
              <a:t>Rocky mountain rocky mountain rocky mountain high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</a:rPr>
              <a:t>When you’re on that rocky mountain hang your head and cr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9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900" spc="-1" strike="noStrike">
                <a:solidFill>
                  <a:srgbClr val="000000"/>
                </a:solidFill>
                <a:latin typeface="Arial"/>
              </a:rPr>
              <a:t>Do do do do do remember me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900" spc="-1" strike="noStrike">
                <a:solidFill>
                  <a:srgbClr val="000000"/>
                </a:solidFill>
                <a:latin typeface="Arial"/>
              </a:rPr>
              <a:t>Do do do do do remember m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</a:rPr>
              <a:t>Sunny valley sunny valley sunny valley low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</a:rPr>
              <a:t>When you’re in that sunny valley sing it soft and l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9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</a:rPr>
              <a:t>Stormy Ocean stormy ocean stormy ocean wide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</a:rPr>
              <a:t>When you’re on that deep blue sea there’s no place you can hid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9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Start o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956720" y="5877000"/>
          <a:ext cx="914400" cy="56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6720" y="5877000"/>
                    <a:ext cx="914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t’s a long way to Tippe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's a long way to Tipper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's a long was to g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's a long way to Tipper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sweetest girl I kno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ewell to Piccadil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long Leister Squa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's a long long way to Tipper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my heart lies the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eol arsa an t- a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195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ol arsa an t-as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‘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é istigh sa ng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Éist le mo ghlórsa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é is binne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í há (x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n Faoile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3657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C             C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           Dm  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aoileán, faoileán ar an trá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m    Dm            </a:t>
            </a: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C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á tú uaigneach, cén fá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C                      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’imigh, d’imigh, d’im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m      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rá mo chro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m                      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’fhág sí mé liom fé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C     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s d’imigh s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56000" y="1268280"/>
            <a:ext cx="4213440" cy="42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C              C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          Dm   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aoileán, faoileán ar an trá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m    Dm           </a:t>
            </a:r>
            <a:r>
              <a:rPr b="1" lang="en-IE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á bí uaigneach mar at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C              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illfidh fillfidh fillfid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m     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rá do chro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m                  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uigeann sí go bi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C       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ur geal leat 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9880" y="6308640"/>
            <a:ext cx="35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Arial"/>
              </a:rPr>
              <a:t>An Bealach Rúnda – Gael Li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5373720"/>
            <a:ext cx="16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Chord of </a:t>
            </a:r>
            <a:r>
              <a:rPr b="1" i="1" lang="en-IE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0000"/>
                </a:solidFill>
                <a:latin typeface="Arial"/>
              </a:rPr>
              <a:t>C E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5373720"/>
            <a:ext cx="154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Chord of 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D F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67280" y="1268280"/>
            <a:ext cx="0" cy="41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411280" y="4708440"/>
            <a:ext cx="218304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71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30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50920" y="3933720"/>
            <a:ext cx="8642160" cy="1295640"/>
            <a:chOff x="250920" y="3933720"/>
            <a:chExt cx="8642160" cy="1295640"/>
          </a:xfrm>
        </p:grpSpPr>
        <p:sp>
          <p:nvSpPr>
            <p:cNvPr id="257" name=""/>
            <p:cNvSpPr/>
            <p:nvPr/>
          </p:nvSpPr>
          <p:spPr>
            <a:xfrm>
              <a:off x="250920" y="4363920"/>
              <a:ext cx="576000" cy="574920"/>
            </a:xfrm>
            <a:prstGeom prst="ellipse">
              <a:avLst/>
            </a:prstGeom>
            <a:solidFill>
              <a:srgbClr val="fdf7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6920" y="4005360"/>
              <a:ext cx="574920" cy="57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24000" y="4437000"/>
              <a:ext cx="576360" cy="574560"/>
            </a:xfrm>
            <a:prstGeom prst="ellipse">
              <a:avLst/>
            </a:prstGeom>
            <a:solidFill>
              <a:srgbClr val="fdf7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27280" y="3933720"/>
              <a:ext cx="574560" cy="576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03640" y="4076640"/>
              <a:ext cx="574920" cy="576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08360" y="4437000"/>
              <a:ext cx="576360" cy="574560"/>
            </a:xfrm>
            <a:prstGeom prst="ellipse">
              <a:avLst/>
            </a:prstGeom>
            <a:solidFill>
              <a:srgbClr val="fdf7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84720" y="4292640"/>
              <a:ext cx="576360" cy="576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17080" y="4653000"/>
              <a:ext cx="576000" cy="576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64360" y="4653000"/>
              <a:ext cx="576360" cy="576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68360" y="4508640"/>
              <a:ext cx="23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79280" y="2421000"/>
            <a:ext cx="8497800" cy="1297080"/>
            <a:chOff x="179280" y="2421000"/>
            <a:chExt cx="8497800" cy="1297080"/>
          </a:xfrm>
        </p:grpSpPr>
        <p:sp>
          <p:nvSpPr>
            <p:cNvPr id="268" name=""/>
            <p:cNvSpPr/>
            <p:nvPr/>
          </p:nvSpPr>
          <p:spPr>
            <a:xfrm>
              <a:off x="179280" y="2924280"/>
              <a:ext cx="576000" cy="576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87280" y="2421000"/>
              <a:ext cx="576360" cy="576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08360" y="2421000"/>
              <a:ext cx="576000" cy="576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2720" y="2924280"/>
              <a:ext cx="576360" cy="576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21080" y="2708280"/>
              <a:ext cx="576360" cy="576360"/>
            </a:xfrm>
            <a:prstGeom prst="ellipse">
              <a:avLst/>
            </a:prstGeom>
            <a:solidFill>
              <a:srgbClr val="fdf7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76720" y="3141720"/>
              <a:ext cx="576360" cy="576360"/>
            </a:xfrm>
            <a:prstGeom prst="ellipse">
              <a:avLst/>
            </a:prstGeom>
            <a:solidFill>
              <a:srgbClr val="fb15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C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00720" y="3141720"/>
              <a:ext cx="576360" cy="576360"/>
            </a:xfrm>
            <a:prstGeom prst="ellipse">
              <a:avLst/>
            </a:prstGeom>
            <a:solidFill>
              <a:srgbClr val="fb15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C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50920" y="476280"/>
            <a:ext cx="8281800" cy="1440000"/>
            <a:chOff x="250920" y="476280"/>
            <a:chExt cx="8281800" cy="1440000"/>
          </a:xfrm>
        </p:grpSpPr>
        <p:sp>
          <p:nvSpPr>
            <p:cNvPr id="276" name=""/>
            <p:cNvSpPr/>
            <p:nvPr/>
          </p:nvSpPr>
          <p:spPr>
            <a:xfrm>
              <a:off x="250920" y="979560"/>
              <a:ext cx="576000" cy="574560"/>
            </a:xfrm>
            <a:prstGeom prst="ellipse">
              <a:avLst/>
            </a:prstGeom>
            <a:solidFill>
              <a:srgbClr val="fdf7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03280" y="476280"/>
              <a:ext cx="574920" cy="576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64000" y="763560"/>
              <a:ext cx="576360" cy="576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71640" y="979560"/>
              <a:ext cx="576360" cy="576360"/>
            </a:xfrm>
            <a:prstGeom prst="ellipse">
              <a:avLst/>
            </a:prstGeom>
            <a:solidFill>
              <a:srgbClr val="fdf7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24360" y="476280"/>
              <a:ext cx="574560" cy="576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59640" y="1339920"/>
              <a:ext cx="576360" cy="576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956720" y="1339920"/>
              <a:ext cx="576000" cy="576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16360" y="1050840"/>
              <a:ext cx="23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49080" y="619200"/>
              <a:ext cx="320760" cy="368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79280" y="5589720"/>
            <a:ext cx="8642520" cy="1268280"/>
            <a:chOff x="179280" y="5589720"/>
            <a:chExt cx="8642520" cy="1268280"/>
          </a:xfrm>
        </p:grpSpPr>
        <p:sp>
          <p:nvSpPr>
            <p:cNvPr id="286" name=""/>
            <p:cNvSpPr/>
            <p:nvPr/>
          </p:nvSpPr>
          <p:spPr>
            <a:xfrm>
              <a:off x="179280" y="5877000"/>
              <a:ext cx="576360" cy="576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6920" y="5661000"/>
              <a:ext cx="576360" cy="576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9640" y="5950080"/>
              <a:ext cx="576360" cy="576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56000" y="5661000"/>
              <a:ext cx="576000" cy="576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3440" y="5734080"/>
              <a:ext cx="576360" cy="574560"/>
            </a:xfrm>
            <a:prstGeom prst="ellipse">
              <a:avLst/>
            </a:prstGeom>
            <a:solidFill>
              <a:srgbClr val="fdf70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61080" y="5589720"/>
              <a:ext cx="576000" cy="5760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52720" y="5950080"/>
              <a:ext cx="576360" cy="576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56360" y="5805360"/>
              <a:ext cx="23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37440" y="6281640"/>
              <a:ext cx="576360" cy="576360"/>
            </a:xfrm>
            <a:prstGeom prst="ellipse">
              <a:avLst/>
            </a:prstGeom>
            <a:solidFill>
              <a:srgbClr val="fb15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45440" y="6281640"/>
              <a:ext cx="576360" cy="576360"/>
            </a:xfrm>
            <a:prstGeom prst="ellipse">
              <a:avLst/>
            </a:prstGeom>
            <a:solidFill>
              <a:srgbClr val="fb15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17080" y="630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Óró 'sé do bheatha bhai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Óró 'sé do bheatha bhaile (x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is ar theacht an tsamhraid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'Sé do bheatha, a bhean ba léanmhar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ba é ár gcréach tú bheith i ngéibhean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dhúiche bhreá i seilbh méirleach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ú díolta leis na Gallaibh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á Gráinne Mhaol ag teacht thar sái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Óglaigh armtha léi mar ghar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eil iad féin, ‘s ní Gaill ná Spáinnig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cuirfid ruaig ar Ghaillibh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f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Óró sé do bheatha ‘bha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do bheatha a bhean ba leanmhar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lcome Oh woman who was so afflic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'e ar gcreach tu bheith i ngeibhin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t was our ruin that you were in bondag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huiche bhrea i seilbh meirlea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ur fine land in the possesion of theive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S tu diolta leis na Ghallaib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d sold to the foreigner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ru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o, se do bheatha 'bhaile! x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Óró! You are welcome home!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is ar theacht an tsamhraid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w that summer is coming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 Grainne Mhaol ag teacht thar sail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rainne Mhaol is coming over the sea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glaigh armtha lei mar ghard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med warriors along with her as guard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eil iad fein 's ni Gaill na Spainnig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y are Irishmen, not English or Spanish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S cuirfid siad ruaig ar Ghallaib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d they will rout the foreigner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Óró mo Bháid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rochfaidh mé seolta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abhfaidh mé si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Óró mo churachín- 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 go hóíche Fhéil’ E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í thiocfaidh mé ani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Óró mo bháidí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urf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ró mo churachín-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óró mo bháidí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ró mo churachín-ó, óró mo bháidí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ach breá é mo bháidí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g snámh ar an gcu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ró mo churachín-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 na céaslaí á dtarrain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o láidir is go ciú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Óró mo bháidí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urf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13777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eigín Leitir Mó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urf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ó gairim, gairim 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s gairim í mo stó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íle grá le m’anam 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í Peigín Leitir Mó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irigh suas, a Pheigí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us seas ar bharr an a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hairigh do chuid bull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us feach an bhfuil siad an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Curf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á Bríd aga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á Cáit aga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í Peig an bhean is fear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’r bith fear a gheobhas 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h air a bheas an t-ádh!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urf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01191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rasna na dton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rfa]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sna na dtonnta, dul siar, dul sia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lán leis an uaigneas ‘is slán leis an gcían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al é mo chroí, agus geal í an ghria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al bheith ag filleadh go hÉirin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onac mo dhóthain de Thíortha I gcéi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Ór agus airgead, saibhreas an tsaoil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iríonn an croí ‘nam le breacadh gach la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‘S mé druidim le dúthaigh mo mhuinti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u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intir an Iarthair ‘siad cairde mo chroí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áilte is féile beidh romham ar gach taob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 fhágáil an tsaoil seo,‘sé guím ar an Rí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ur leo sin a shinfear í gcill m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urf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eidh Aonach Amár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idh aonach amárach i gContae an Chlá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 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én mhaith dom é, ní bheidh mé an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ur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háithrín, an ligfidh tú chun aonaigh mé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huirnín ó ná héiligh 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íl tú a deich nó a haon déag fós (X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air a bheidh tú trí déag beidh tú mó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Comic Sans MS"/>
              </a:rPr>
              <a:t>Curf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'fhearr liom féin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hréasaí bró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x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á oifigeach airm faoi lásaí ó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anoe 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y paddle’s keen and b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lashing with si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ollow the wild goose f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ip dip and s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ip dip and swing her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lashing with si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ollow the wild go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ip dip and swing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éard a chonaic t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éard a chonaic tú céard a chonaic tú, céard a chonaic tú sa spéir?  (x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onaic mé na réalta, na réalta, na réal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onaic mé na réa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g taitneamh sa spé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éard a chonaic tú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onaic mé an ghrian, an ghrian an ghr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onaic mé an ghr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g taitneamh sa spé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Ó chonaic mé an t-eitleán, an t-eitleán an t-eitle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onaic mé an t-eitleán ag eitilt suas sa spé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éard a chonaic tú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onaic mé na héin, na héin, na hé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onaic mé na héin ag eitilt suas sa spé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g eitilt suas sa spéi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34582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n Poc ar Bu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r mo ghabháil dom siar chun Droichead Uí Mhórdh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íce I’m dhóid is mé ag dul I meith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é chasfaí orm I gcumar ceoid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ch pocán crón is é ar bu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Curf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lliliú puilliliú, alliliú tá an poc ar buile (x 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o ritheamar trasna trí ruilleog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s do ghluais an comhrac ar fud na mu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s treascairt dá bhfuair sé sna turtó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uas in a ainneoin as a dhroim le fuinneam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Curf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hí garda mór I mBaile an Róist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s bhailigh fórsaí chun sinn a chlipe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o bhuail sé rop dá adhairc sa tóin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s dá bhríste nua do dhein sé giob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urf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 nDaingean uí Chúis le haghaidh an tráthnó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hí an sagart paróiste amach ‘nar gcoinnib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s é dúirt gurbh é an diabhal ba dhóigh l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 ghaibh an treo ar phocán bu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Curf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4102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n Poc ar bu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s I set out with pike in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o old Dromore to join a meith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ho should I meet but a tan puck go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d he roaring mad in a ferocious me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e chased me over bush and w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d through the bog the run proc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il he caught his horns in a clump of gor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d on his back I jumped unh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hen the seargant stood in Rochestow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ith a force of guards to apprehend 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goat he tore his trousers dow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d made rags of his breeches and new suspend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 Dingle the following afterno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Parish Priest came to call us to ord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d he swore from the pulpit each Sunday in Ju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was the devil on the back of his own grandfa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Bean Pháid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Curfá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é'n trua nach mise, nach m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'S é'n trua nach m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an Pháidí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'S é'n trua nach mi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ch m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'S an bhean atá aige bheith cail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chainn go Gaillmh go Gaillim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rachainn go Gaillimh le Páidí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chainn go Gallaí go Gaillim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thiocfainn abhaile sa mbád le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Curf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 mbristear do chosa, do ch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 mbristear do chosa 'b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áid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 mbristear do chosa, do ch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 mbristear do chosa 's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nám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Comic Sans MS"/>
              </a:rPr>
              <a:t>Curfá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ith mé mo bhróga, mo bhró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ith mé mo bhróga i ndiai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áid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ith mé mo bhróga, mo bhró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ith mé na boinn is na sá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Comic Sans MS"/>
              </a:rPr>
              <a:t>Curfá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ríd Óg Ní Mhá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Bhríd Óg Ní Mhá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tú d'fhág mo chroí crái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chuir tú arraingeacha an bhá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íd cheartlár mo chro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á na céadta fear i ng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d'éadan ciúin náir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go dtug tú bar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áchtacht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 Thír Oirghiall más fío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íl ní ar bith is á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á'n ghealach os cionn a' tsá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á bláth bán na n-air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íos ag fás ar an draigh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Ó siúd mar bíos mo ghrá-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íos trilsí le breáchta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éilín meala na háilleacht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ch ndearna riamh cla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buachaill deas óg m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Tá triall chun mo phó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ní buan i bhfad beo m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ra bhfaighidh mé mo mh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huisle is a stóirí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éan réidh agus bí romham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onn deireanach den Domhn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 Bhóithrín Dhroim Sliabh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uirseach 's brón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haithimse an Domhn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 hata 'mo dhorn li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mé ag osnaíl go t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mé ag amharc ar na bóith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Mbíonn mo ghrá-sa ag gabhail 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í ag fear eile pó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gan í bheith lio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698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ríd Og Ní Mhá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 Brid Og O'Mall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have left my heart bre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've sent the death pa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sorrow to pierce my heart s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hundred men are cra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your breathtaking beau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're the fairest of maid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Oriel for s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ectacle is fai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 moonbeams on the harb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he sweet scented bloss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sloe on the tho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my love shines much brigh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looks and in st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honey-lipped beau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never said wro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'm a handsome young fe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is thinking of wed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my life will be shorte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I don't get my d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 love and my dar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pare now to meet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next Sunday ev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the road to Drum Slie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'Tis sadly and lon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pass the time on Sun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 head bowed in sorr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 sights heavy with w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I gaze upon the by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my true love walks o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she's wed to an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left me forlo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éir abhaile ‘ri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éir abhaile ‘riú, téir abhaile ‘ri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éir abhaile riú a Mhéara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éir abhaile ‘riú ‘s fan sa bha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ar tá do mhargadh dé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urf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s cuma cé dhein é nó ná dh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s cuma cé dhein é a Mhéara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s cuma cé dhein é nó ná dh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ar tá do mhargadh dé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ós a’ píobaire, pós a’ píob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ós a’ píobaire a Mhéara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ós a’ píobaire I dtús na hoí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s beidh sé agat ar maid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íl mo mhargadh, tá do mharga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íl mo mhargadh dé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á do mhargadh, níl mo mharga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á do mhargadh dé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eáinín Boch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á pian i mo lámha, a mhúinteoir, a mhúinteo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á pian I mo lámh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Ní féidir liom scríob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Ní féidir leat scríobh, a Sheáinín, a Sheáiní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Ní féidir leat scríob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 féidir leat léam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á pian i mo shúile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húinteoir, a mhúinteo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á pian I mo shú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Ní féidir liom léam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Ní féidir leat léamh a Sheáinín, a Sheáiní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Ní féidir leat léam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 féidir leat éistea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á pian i mo chluasa,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húinteoir, a mhúinteo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á pian I mo chlu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Ní féidir liom éistea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Ní féidir leat éisteacht a Sheáinín, a Sheáiní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Ní féidir leat éistea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 féidir leat ith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s féidir liom ithe a mhúinteoir, a mhúinteo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Ba bhreá liom seacláid, milseáin, liomaná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Ba bhreá liom seacláid, milseáin, liomaná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Léimigí, Casaig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éimigí casaig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iocaigí na tortha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éimigí casaig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iocaigí níos m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éimigí casaig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iocaigí na tortha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éimigí casaig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iocaigí go le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Curfá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Ó, a thiarna, piocaigí na tortha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Ó, a thiarna, piocaigí níos m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Ó, a thiarna, piocaigí na tortha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Ó, a thiarna, piocaigí go le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éimigí casaig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iocaigí na glasraí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mhrán na bhFian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ne Fianna Fáil a tá fé gheall ag Éirin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íon dár sl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r toinn do ráinig chugain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é mhóid bheith sa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an tír ár sinsir fea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í fhagfar fé'n tiorán ná faoin trá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ocht a théam sa bhearna bhaoil,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gean ar Ghaeil chun báis nó sao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guna scréach faoi lámhach na bpilé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o libh canaidh Amhrán na bhFia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Drunken Sai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92360" y="765000"/>
            <a:ext cx="5688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cc0000"/>
                </a:solidFill>
                <a:latin typeface="Arial"/>
              </a:rPr>
              <a:t>Dm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IE" sz="2000" spc="-1" strike="noStrike">
                <a:solidFill>
                  <a:srgbClr val="cc0000"/>
                </a:solidFill>
                <a:latin typeface="Arial"/>
              </a:rPr>
              <a:t>Dm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What shall we do with the drunken sa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IE" sz="20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What shall we do with the drunken sa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cc0000"/>
                </a:solidFill>
                <a:latin typeface="Arial"/>
              </a:rPr>
              <a:t>Dm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IE" sz="2000" spc="-1" strike="noStrike">
                <a:solidFill>
                  <a:srgbClr val="cc0000"/>
                </a:solidFill>
                <a:latin typeface="Arial"/>
              </a:rPr>
              <a:t>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What shall we do with the drunken sa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IE" sz="2000" spc="-1" strike="noStrike">
                <a:solidFill>
                  <a:srgbClr val="cc0000"/>
                </a:solidFill>
                <a:latin typeface="Arial"/>
              </a:rPr>
              <a:t>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Early in the m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cc0000"/>
                </a:solidFill>
                <a:latin typeface="Arial"/>
              </a:rPr>
              <a:t>Dm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cc0000"/>
                </a:solidFill>
                <a:latin typeface="Arial"/>
              </a:rPr>
              <a:t>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Hey ho and up she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IE" sz="20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Hey ho and up she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cc0000"/>
                </a:solidFill>
                <a:latin typeface="Arial"/>
              </a:rPr>
              <a:t>Dm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IE" sz="2000" spc="-1" strike="noStrike">
                <a:solidFill>
                  <a:srgbClr val="cc0000"/>
                </a:solidFill>
                <a:latin typeface="Arial"/>
              </a:rPr>
              <a:t>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Hey ho and up she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IE" sz="2000" spc="-1" strike="noStrike">
                <a:solidFill>
                  <a:srgbClr val="cc0000"/>
                </a:solidFill>
                <a:latin typeface="Arial"/>
              </a:rPr>
              <a:t>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Early in the m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cc0000"/>
                </a:solidFill>
                <a:latin typeface="Arial"/>
              </a:rPr>
              <a:t>Chord Dm: D 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9999"/>
                </a:solidFill>
                <a:latin typeface="Arial"/>
              </a:rPr>
              <a:t>Chord C: C E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9999"/>
                </a:solidFill>
                <a:latin typeface="Arial"/>
              </a:rPr>
              <a:t>Start note: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3360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mad puck g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s I set out with my pike in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old Dromore to join a meith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o should I meet but a tan puc go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nd he roaing mad, in ferocious fe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e chased me over bush and w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nd through the bog the run proc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il he caught his horns in a clump of g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nd on his back I jumped unh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re was a big guard in Rochest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e gathered his forces to stop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e goat he tore his trousers and made rags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 Dingle that ev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parish priest was out to call us to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nd he said twas the devil that was going in the direction of the old puck go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62120" y="316080"/>
            <a:ext cx="792468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316080"/>
            <a:ext cx="8915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521080" y="274680"/>
            <a:ext cx="41004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316080"/>
            <a:ext cx="822960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Arial"/>
              </a:rPr>
              <a:t>Tony Chestn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C       C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C</a:t>
            </a: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ny Chestnut knows I love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C   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ny knows, Tony kn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C      C          C</a:t>
            </a: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ny Chestnut knows I love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      G       </a:t>
            </a: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at’s what Tony kn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d13909"/>
                </a:solidFill>
                <a:latin typeface="Arial"/>
              </a:rPr>
              <a:t>C Maj = CEG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       G Maj = G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tarting note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Get children to tap thei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Toe Knee Chest Nut (head) Nose Eye Love (heart) him (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005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ony Chestn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19640" y="3573360"/>
            <a:ext cx="569880" cy="448920"/>
            <a:chOff x="3419640" y="3573360"/>
            <a:chExt cx="569880" cy="448920"/>
          </a:xfrm>
        </p:grpSpPr>
        <p:grpSp>
          <p:nvGrpSpPr>
            <p:cNvPr id="72" name=""/>
            <p:cNvGrpSpPr/>
            <p:nvPr/>
          </p:nvGrpSpPr>
          <p:grpSpPr>
            <a:xfrm>
              <a:off x="3561840" y="3573360"/>
              <a:ext cx="427680" cy="397800"/>
              <a:chOff x="3561840" y="3573360"/>
              <a:chExt cx="427680" cy="397800"/>
            </a:xfrm>
          </p:grpSpPr>
          <p:sp>
            <p:nvSpPr>
              <p:cNvPr id="73" name=""/>
              <p:cNvSpPr/>
              <p:nvPr/>
            </p:nvSpPr>
            <p:spPr>
              <a:xfrm>
                <a:off x="3971880" y="357336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582720" y="358380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61840" y="357768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380664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1964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476360" y="1844640"/>
            <a:ext cx="569880" cy="448920"/>
            <a:chOff x="1476360" y="1844640"/>
            <a:chExt cx="569880" cy="448920"/>
          </a:xfrm>
        </p:grpSpPr>
        <p:grpSp>
          <p:nvGrpSpPr>
            <p:cNvPr id="79" name=""/>
            <p:cNvGrpSpPr/>
            <p:nvPr/>
          </p:nvGrpSpPr>
          <p:grpSpPr>
            <a:xfrm>
              <a:off x="1618560" y="1844640"/>
              <a:ext cx="427680" cy="397800"/>
              <a:chOff x="1618560" y="1844640"/>
              <a:chExt cx="427680" cy="397800"/>
            </a:xfrm>
          </p:grpSpPr>
          <p:sp>
            <p:nvSpPr>
              <p:cNvPr id="80" name=""/>
              <p:cNvSpPr/>
              <p:nvPr/>
            </p:nvSpPr>
            <p:spPr>
              <a:xfrm>
                <a:off x="2028600" y="184464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39440" y="185508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618560" y="184896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186336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7636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708360" y="1844640"/>
            <a:ext cx="569880" cy="448920"/>
            <a:chOff x="3708360" y="1844640"/>
            <a:chExt cx="569880" cy="448920"/>
          </a:xfrm>
        </p:grpSpPr>
        <p:grpSp>
          <p:nvGrpSpPr>
            <p:cNvPr id="86" name=""/>
            <p:cNvGrpSpPr/>
            <p:nvPr/>
          </p:nvGrpSpPr>
          <p:grpSpPr>
            <a:xfrm>
              <a:off x="3850560" y="1844640"/>
              <a:ext cx="427680" cy="397800"/>
              <a:chOff x="3850560" y="1844640"/>
              <a:chExt cx="427680" cy="397800"/>
            </a:xfrm>
          </p:grpSpPr>
          <p:sp>
            <p:nvSpPr>
              <p:cNvPr id="87" name=""/>
              <p:cNvSpPr/>
              <p:nvPr/>
            </p:nvSpPr>
            <p:spPr>
              <a:xfrm>
                <a:off x="4260600" y="184464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71440" y="185508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850560" y="184896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409536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0836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627280" y="1844640"/>
            <a:ext cx="569880" cy="448920"/>
            <a:chOff x="2627280" y="1844640"/>
            <a:chExt cx="569880" cy="448920"/>
          </a:xfrm>
        </p:grpSpPr>
        <p:grpSp>
          <p:nvGrpSpPr>
            <p:cNvPr id="93" name=""/>
            <p:cNvGrpSpPr/>
            <p:nvPr/>
          </p:nvGrpSpPr>
          <p:grpSpPr>
            <a:xfrm>
              <a:off x="2769480" y="1844640"/>
              <a:ext cx="427680" cy="397800"/>
              <a:chOff x="2769480" y="1844640"/>
              <a:chExt cx="427680" cy="397800"/>
            </a:xfrm>
          </p:grpSpPr>
          <p:sp>
            <p:nvSpPr>
              <p:cNvPr id="94" name=""/>
              <p:cNvSpPr/>
              <p:nvPr/>
            </p:nvSpPr>
            <p:spPr>
              <a:xfrm>
                <a:off x="3179520" y="184464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90360" y="185508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769480" y="184896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301428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2728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500720" y="1773360"/>
            <a:ext cx="1440" cy="477720"/>
          </a:xfrm>
          <a:custGeom>
            <a:avLst/>
            <a:gdLst/>
            <a:ahLst/>
            <a:rect l="l" t="t" r="r" b="b"/>
            <a:pathLst>
              <a:path w="2" h="762">
                <a:moveTo>
                  <a:pt x="2" y="0"/>
                </a:moveTo>
                <a:lnTo>
                  <a:pt x="0" y="7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788000" y="1844640"/>
            <a:ext cx="569880" cy="448920"/>
            <a:chOff x="4788000" y="1844640"/>
            <a:chExt cx="569880" cy="448920"/>
          </a:xfrm>
        </p:grpSpPr>
        <p:grpSp>
          <p:nvGrpSpPr>
            <p:cNvPr id="101" name=""/>
            <p:cNvGrpSpPr/>
            <p:nvPr/>
          </p:nvGrpSpPr>
          <p:grpSpPr>
            <a:xfrm>
              <a:off x="4930200" y="1844640"/>
              <a:ext cx="427680" cy="397800"/>
              <a:chOff x="4930200" y="1844640"/>
              <a:chExt cx="427680" cy="397800"/>
            </a:xfrm>
          </p:grpSpPr>
          <p:sp>
            <p:nvSpPr>
              <p:cNvPr id="102" name=""/>
              <p:cNvSpPr/>
              <p:nvPr/>
            </p:nvSpPr>
            <p:spPr>
              <a:xfrm>
                <a:off x="5340240" y="184464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51080" y="185508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30200" y="184896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517500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8800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372360" y="1773360"/>
            <a:ext cx="569880" cy="520560"/>
            <a:chOff x="6372360" y="1773360"/>
            <a:chExt cx="569880" cy="520560"/>
          </a:xfrm>
        </p:grpSpPr>
        <p:grpSp>
          <p:nvGrpSpPr>
            <p:cNvPr id="108" name=""/>
            <p:cNvGrpSpPr/>
            <p:nvPr/>
          </p:nvGrpSpPr>
          <p:grpSpPr>
            <a:xfrm>
              <a:off x="6514560" y="1773360"/>
              <a:ext cx="427680" cy="460800"/>
              <a:chOff x="6514560" y="1773360"/>
              <a:chExt cx="427680" cy="460800"/>
            </a:xfrm>
          </p:grpSpPr>
          <p:sp>
            <p:nvSpPr>
              <p:cNvPr id="109" name=""/>
              <p:cNvSpPr/>
              <p:nvPr/>
            </p:nvSpPr>
            <p:spPr>
              <a:xfrm>
                <a:off x="6924600" y="1773360"/>
                <a:ext cx="360" cy="46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35440" y="1785600"/>
                <a:ext cx="3240" cy="44856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14560" y="177840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6759360" y="2163960"/>
              <a:ext cx="167040" cy="12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72360" y="2163960"/>
              <a:ext cx="167040" cy="12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796000" y="1844640"/>
            <a:ext cx="181080" cy="474840"/>
            <a:chOff x="5796000" y="1844640"/>
            <a:chExt cx="181080" cy="474840"/>
          </a:xfrm>
        </p:grpSpPr>
        <p:sp>
          <p:nvSpPr>
            <p:cNvPr id="115" name=""/>
            <p:cNvSpPr/>
            <p:nvPr/>
          </p:nvSpPr>
          <p:spPr>
            <a:xfrm>
              <a:off x="5975640" y="1844640"/>
              <a:ext cx="1080" cy="42336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96000" y="2192760"/>
              <a:ext cx="181080" cy="1267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451640" y="1773360"/>
            <a:ext cx="181080" cy="474480"/>
            <a:chOff x="7451640" y="1773360"/>
            <a:chExt cx="181080" cy="474480"/>
          </a:xfrm>
        </p:grpSpPr>
        <p:sp>
          <p:nvSpPr>
            <p:cNvPr id="118" name=""/>
            <p:cNvSpPr/>
            <p:nvPr/>
          </p:nvSpPr>
          <p:spPr>
            <a:xfrm>
              <a:off x="7631280" y="1773360"/>
              <a:ext cx="1080" cy="42300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51640" y="2121120"/>
              <a:ext cx="181080" cy="1267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8244000" y="1844640"/>
            <a:ext cx="1440" cy="477720"/>
          </a:xfrm>
          <a:custGeom>
            <a:avLst/>
            <a:gdLst/>
            <a:ahLst/>
            <a:rect l="l" t="t" r="r" b="b"/>
            <a:pathLst>
              <a:path w="2" h="762">
                <a:moveTo>
                  <a:pt x="2" y="0"/>
                </a:moveTo>
                <a:lnTo>
                  <a:pt x="0" y="7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68360" y="1844640"/>
            <a:ext cx="569880" cy="448920"/>
            <a:chOff x="468360" y="1844640"/>
            <a:chExt cx="569880" cy="448920"/>
          </a:xfrm>
        </p:grpSpPr>
        <p:grpSp>
          <p:nvGrpSpPr>
            <p:cNvPr id="122" name=""/>
            <p:cNvGrpSpPr/>
            <p:nvPr/>
          </p:nvGrpSpPr>
          <p:grpSpPr>
            <a:xfrm>
              <a:off x="610560" y="1844640"/>
              <a:ext cx="427680" cy="397800"/>
              <a:chOff x="610560" y="1844640"/>
              <a:chExt cx="427680" cy="397800"/>
            </a:xfrm>
          </p:grpSpPr>
          <p:sp>
            <p:nvSpPr>
              <p:cNvPr id="123" name=""/>
              <p:cNvSpPr/>
              <p:nvPr/>
            </p:nvSpPr>
            <p:spPr>
              <a:xfrm>
                <a:off x="1020600" y="184464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1440" y="185508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0560" y="184896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85536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8360" y="218160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484360" y="3573360"/>
            <a:ext cx="569880" cy="448920"/>
            <a:chOff x="2484360" y="3573360"/>
            <a:chExt cx="569880" cy="448920"/>
          </a:xfrm>
        </p:grpSpPr>
        <p:grpSp>
          <p:nvGrpSpPr>
            <p:cNvPr id="129" name=""/>
            <p:cNvGrpSpPr/>
            <p:nvPr/>
          </p:nvGrpSpPr>
          <p:grpSpPr>
            <a:xfrm>
              <a:off x="2626560" y="3573360"/>
              <a:ext cx="427680" cy="397800"/>
              <a:chOff x="2626560" y="3573360"/>
              <a:chExt cx="427680" cy="397800"/>
            </a:xfrm>
          </p:grpSpPr>
          <p:sp>
            <p:nvSpPr>
              <p:cNvPr id="130" name=""/>
              <p:cNvSpPr/>
              <p:nvPr/>
            </p:nvSpPr>
            <p:spPr>
              <a:xfrm>
                <a:off x="3036600" y="357336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647440" y="358380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26560" y="357768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287136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436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24000" y="3573360"/>
            <a:ext cx="569880" cy="448920"/>
            <a:chOff x="324000" y="3573360"/>
            <a:chExt cx="569880" cy="448920"/>
          </a:xfrm>
        </p:grpSpPr>
        <p:grpSp>
          <p:nvGrpSpPr>
            <p:cNvPr id="136" name=""/>
            <p:cNvGrpSpPr/>
            <p:nvPr/>
          </p:nvGrpSpPr>
          <p:grpSpPr>
            <a:xfrm>
              <a:off x="466200" y="3573360"/>
              <a:ext cx="427680" cy="397800"/>
              <a:chOff x="466200" y="3573360"/>
              <a:chExt cx="427680" cy="397800"/>
            </a:xfrm>
          </p:grpSpPr>
          <p:sp>
            <p:nvSpPr>
              <p:cNvPr id="137" name=""/>
              <p:cNvSpPr/>
              <p:nvPr/>
            </p:nvSpPr>
            <p:spPr>
              <a:xfrm>
                <a:off x="876240" y="357336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080" y="358380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6200" y="357768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71100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00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403280" y="3573360"/>
            <a:ext cx="569880" cy="448920"/>
            <a:chOff x="1403280" y="3573360"/>
            <a:chExt cx="569880" cy="448920"/>
          </a:xfrm>
        </p:grpSpPr>
        <p:grpSp>
          <p:nvGrpSpPr>
            <p:cNvPr id="143" name=""/>
            <p:cNvGrpSpPr/>
            <p:nvPr/>
          </p:nvGrpSpPr>
          <p:grpSpPr>
            <a:xfrm>
              <a:off x="1545480" y="3573360"/>
              <a:ext cx="427680" cy="397800"/>
              <a:chOff x="1545480" y="3573360"/>
              <a:chExt cx="427680" cy="397800"/>
            </a:xfrm>
          </p:grpSpPr>
          <p:sp>
            <p:nvSpPr>
              <p:cNvPr id="144" name=""/>
              <p:cNvSpPr/>
              <p:nvPr/>
            </p:nvSpPr>
            <p:spPr>
              <a:xfrm>
                <a:off x="1955520" y="357336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566360" y="358380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545480" y="357768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179028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0328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356000" y="3573360"/>
            <a:ext cx="1800" cy="478080"/>
          </a:xfrm>
          <a:custGeom>
            <a:avLst/>
            <a:gdLst/>
            <a:ahLst/>
            <a:rect l="l" t="t" r="r" b="b"/>
            <a:pathLst>
              <a:path w="2" h="762">
                <a:moveTo>
                  <a:pt x="2" y="0"/>
                </a:moveTo>
                <a:lnTo>
                  <a:pt x="0" y="7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643280" y="3573360"/>
            <a:ext cx="569880" cy="448920"/>
            <a:chOff x="4643280" y="3573360"/>
            <a:chExt cx="569880" cy="448920"/>
          </a:xfrm>
        </p:grpSpPr>
        <p:grpSp>
          <p:nvGrpSpPr>
            <p:cNvPr id="151" name=""/>
            <p:cNvGrpSpPr/>
            <p:nvPr/>
          </p:nvGrpSpPr>
          <p:grpSpPr>
            <a:xfrm>
              <a:off x="4785480" y="3573360"/>
              <a:ext cx="427680" cy="397800"/>
              <a:chOff x="4785480" y="3573360"/>
              <a:chExt cx="427680" cy="397800"/>
            </a:xfrm>
          </p:grpSpPr>
          <p:sp>
            <p:nvSpPr>
              <p:cNvPr id="152" name=""/>
              <p:cNvSpPr/>
              <p:nvPr/>
            </p:nvSpPr>
            <p:spPr>
              <a:xfrm>
                <a:off x="5195520" y="357336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06360" y="358380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85480" y="357768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503028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651640" y="3573360"/>
            <a:ext cx="569880" cy="448920"/>
            <a:chOff x="5651640" y="3573360"/>
            <a:chExt cx="569880" cy="448920"/>
          </a:xfrm>
        </p:grpSpPr>
        <p:grpSp>
          <p:nvGrpSpPr>
            <p:cNvPr id="158" name=""/>
            <p:cNvGrpSpPr/>
            <p:nvPr/>
          </p:nvGrpSpPr>
          <p:grpSpPr>
            <a:xfrm>
              <a:off x="5793840" y="3573360"/>
              <a:ext cx="427680" cy="397800"/>
              <a:chOff x="5793840" y="3573360"/>
              <a:chExt cx="427680" cy="397800"/>
            </a:xfrm>
          </p:grpSpPr>
          <p:sp>
            <p:nvSpPr>
              <p:cNvPr id="159" name=""/>
              <p:cNvSpPr/>
              <p:nvPr/>
            </p:nvSpPr>
            <p:spPr>
              <a:xfrm>
                <a:off x="6203880" y="3573360"/>
                <a:ext cx="360" cy="39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814720" y="3583800"/>
                <a:ext cx="3240" cy="387000"/>
              </a:xfrm>
              <a:custGeom>
                <a:avLst/>
                <a:gdLst/>
                <a:ahLst/>
                <a:rect l="l" t="t" r="r" b="b"/>
                <a:pathLst>
                  <a:path w="2" h="702">
                    <a:moveTo>
                      <a:pt x="2" y="0"/>
                    </a:moveTo>
                    <a:lnTo>
                      <a:pt x="0" y="70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93840" y="3577680"/>
                <a:ext cx="427680" cy="360"/>
              </a:xfrm>
              <a:custGeom>
                <a:avLst/>
                <a:gdLst/>
                <a:ahLst/>
                <a:rect l="l" t="t" r="r" b="b"/>
                <a:pathLst>
                  <a:path w="892" h="1">
                    <a:moveTo>
                      <a:pt x="892" y="0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603864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51640" y="3910320"/>
              <a:ext cx="167040" cy="111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732720" y="3573360"/>
            <a:ext cx="180720" cy="474840"/>
            <a:chOff x="6732720" y="3573360"/>
            <a:chExt cx="180720" cy="474840"/>
          </a:xfrm>
        </p:grpSpPr>
        <p:sp>
          <p:nvSpPr>
            <p:cNvPr id="165" name=""/>
            <p:cNvSpPr/>
            <p:nvPr/>
          </p:nvSpPr>
          <p:spPr>
            <a:xfrm>
              <a:off x="6912000" y="3573360"/>
              <a:ext cx="1440" cy="423360"/>
            </a:xfrm>
            <a:custGeom>
              <a:avLst/>
              <a:gdLst/>
              <a:ahLst/>
              <a:rect l="l" t="t" r="r" b="b"/>
              <a:pathLst>
                <a:path w="3" h="701">
                  <a:moveTo>
                    <a:pt x="3" y="0"/>
                  </a:moveTo>
                  <a:lnTo>
                    <a:pt x="0" y="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32720" y="3921480"/>
              <a:ext cx="180720" cy="126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8172360" y="3573360"/>
            <a:ext cx="1800" cy="478080"/>
          </a:xfrm>
          <a:custGeom>
            <a:avLst/>
            <a:gdLst/>
            <a:ahLst/>
            <a:rect l="l" t="t" r="r" b="b"/>
            <a:pathLst>
              <a:path w="2" h="762">
                <a:moveTo>
                  <a:pt x="2" y="0"/>
                </a:moveTo>
                <a:lnTo>
                  <a:pt x="0" y="7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2781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   A        G   E           G   A        G    E        D    E       F       E    F        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450864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   A        G    E        G    A       G   E          D   F       E     D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Water Come a Me Eye</a:t>
            </a:r>
            <a:br>
              <a:rPr sz="2400"/>
            </a:br>
            <a:br>
              <a:rPr sz="2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ery time I remember Liza</a:t>
            </a:r>
            <a:br>
              <a:rPr sz="2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come a me eye</a:t>
            </a:r>
            <a:br>
              <a:rPr sz="2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en I think about my gal Liza</a:t>
            </a:r>
            <a:br>
              <a:rPr sz="2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come a me eye</a:t>
            </a:r>
            <a:br>
              <a:rPr sz="2400"/>
            </a:br>
            <a:br>
              <a:rPr sz="2400"/>
            </a:b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e back Liza come back girl</a:t>
            </a:r>
            <a:br>
              <a:rPr sz="2400"/>
            </a:b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come a me eye</a:t>
            </a:r>
            <a:br>
              <a:rPr sz="2400"/>
            </a:b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e back Liza come back girl</a:t>
            </a:r>
            <a:br>
              <a:rPr sz="2400"/>
            </a:b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come a me eye</a:t>
            </a:r>
            <a:br>
              <a:rPr sz="2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2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’m so sad since you went away girl</a:t>
            </a:r>
            <a:br>
              <a:rPr sz="2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come a me eye</a:t>
            </a:r>
            <a:br>
              <a:rPr sz="2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en you coming back home to stay girl?</a:t>
            </a:r>
            <a:br>
              <a:rPr sz="2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come a me eye</a:t>
            </a:r>
            <a:br>
              <a:rPr sz="2400"/>
            </a:br>
            <a:br>
              <a:rPr sz="2400"/>
            </a:b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e back Liza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 rot="21054000">
            <a:off x="237600" y="495000"/>
            <a:ext cx="1944720" cy="1387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 rot="646800">
            <a:off x="7020000" y="907920"/>
            <a:ext cx="1571400" cy="16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7885080" y="5877000"/>
          <a:ext cx="101916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85080" y="5877000"/>
                    <a:ext cx="10191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619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The Human drum 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76360" y="980640"/>
            <a:ext cx="5904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re you ready? </a:t>
            </a: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Click 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ause you’re in for a trea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re you ready? </a:t>
            </a: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Click 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ith your fingers and fe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re you ready? </a:t>
            </a: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Click 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an you feel the b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e are the human drum k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Stamp, stamp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! goes the big bass dr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ow listen to the hi-hat, </a:t>
            </a: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ch ch, ch ch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nares go </a:t>
            </a: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clap clap, clap cla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ollowed by a crash on the cymbals </a:t>
            </a: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S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f: Banana Splits page: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anus</cp:lastModifiedBy>
  <dcterms:modified xsi:type="dcterms:W3CDTF">2017-09-08T10:53:38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