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162-5AC5-4933-AB73-CE638D94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8F8-D2A4-4DB3-8FF8-E042E98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E13-9D49-4EA0-B719-1496FEB1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A0D-52A3-43AB-9F9E-B2C416EA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21F-652E-4282-B5AD-3E9FBFA1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6A3-C2C6-46E5-AD32-15E6A395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6C8-3453-4D8D-9596-F1714919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1BB-4307-4C32-8B38-C8830557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BD4-9790-4F20-94C7-24B5AB51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938-6234-4B64-8CAF-C2F9AFC8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864-77DF-468C-AE71-0F1CAB9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A8C-6047-4C97-82FB-5CD48FC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3C0F-72EF-4068-8AC1-E5984A5B6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ilent Night  c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l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- BA  F-  A- B A 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’-  E’   C-  D’- D’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-  B  D’- C B  A- B A 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-  B  D’- C B  A- B A 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’- E’ G’- E’ C D’--- F’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A F A-  G E D--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F- GF  D-  F- G F  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G-   G-  G-  F-  F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G-  G  B- A G  F- G F 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G-  G  B- A G  F- G F 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G-  G  G- - F- -  A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F E D E- G G  F--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Jesus sle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esus sleeps quietly quietly quie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esus sleeps quie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a manger s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 will watch silently silently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 will watch silen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esus Lord of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hristmas Bells</a:t>
            </a: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Key of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’  C  B  A  GF  EF  DF 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’  C  B  A  GF  EF  D-          (X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-  D-  D-  D-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hristamas Bells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1200"/>
            </a:b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Key of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’  B  A  G  FE  DE  C,D 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’  B  A  G  FE  DE  C,-          (X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,-  C,-  C,-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Joy to the world     C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’-  C B A- G F E D-    A B- B C-  C D’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’ D’ C B A A- GF  D’ D’ C B A A- G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 F F FG A-   GF  E E E F G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E  D D’- B A- GF    G  F  E  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</a:rPr>
              <a:t>B  B B B A C B B E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</a:rPr>
              <a:t>G G G G F  A G A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</a:rPr>
              <a:t>AB  C C B A  B G 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</a:rPr>
              <a:t>G G  F A  F  D E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First Noel   C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 E D- E F G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CD’  C  B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CD’ C B A B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A G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 E D- E F G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CD’  C  B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CD’- C B A B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A G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ED- EF G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CB- B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C B A 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’ A G 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way in a Manger  C#  F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, D D EF  D D FG A A B G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F G G A F F DF  E B, D C,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, D D EF  D D FG A A B G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F G G A F F DF  E B,  C, D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Jingle Bells        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 F F- FFF- FAD- EF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GG- FFF- FEE FE- 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 F F- FFF- FAD- 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GG- FFF- AGFE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Harmony for c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D’ C’ B A 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B B B- A A A- C---- 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D’ C’ B A 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B B B- A 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C A B C D’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F’ E’ D’ 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F’ E’ D’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 G’ F’ E’ C#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’ A’ G’ E’ F’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F’ E’ D’ A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’ F’ E’ D’ B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 G’ F’ 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’ A’ A’ 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’ G’F’ E’ D’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child’s song of praise  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 na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’  B  D’  B  ABCA  B  G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’  B  D’  B  ABCA  G 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 A  C  C  B  B  D’  D’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 A  C  C  BABC D’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’  B  D’  B  ABCA  B  G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’  B  D’  B  ABCA  G 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Jesus sleeps in      Key F (Bfl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’ C’- A- G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- AB-  A-  G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C’ C’- A-  GF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 G A A G F -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C’ C’ -  A- GF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- AB-  A- G 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C’ C’ – A- G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 G A G  G F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Jesus sle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 D’ D’- B- AG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- BC-  B-  AB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 D’ D’- B- A`G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A B A G -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 D’ D’ -  B- AG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- BC-  B- AB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 D’ D’ – B-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A B A G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nus</cp:lastModifiedBy>
  <dcterms:modified xsi:type="dcterms:W3CDTF">2015-12-02T10:03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