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7707-F0C1-47BA-9D8D-BC3BFC9808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1423-7C6E-431F-B68E-9C8D077785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255A-2FA3-4BE2-824D-FA185F0F5D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D77-3736-40E6-A7AF-DF1CABF0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D8A-388C-48ED-8874-1559B7BF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D0B-2483-4A11-97CB-A784DE8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0E6-43C1-400A-B7FB-0C1FF2E9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4CF-7E66-45C1-A6B8-76D6C8C2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A17-BEDE-47EA-81BE-F4DBFE0C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26AE-CF80-40EF-80A8-EC5CE32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B22A-F3BC-4BA5-A9A4-1F2B8B1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A38-4EB2-473A-9502-2076932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CD6-8DB9-4E33-88DF-49C29B7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9F2-2F74-4904-BB15-CBB908E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FBE-D3D6-4371-92C5-070022B3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157-62AF-46A6-B15A-F3DA467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A0E-4027-41A1-80CE-E99030C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F5E3-2356-49EA-9D86-395DA69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F0C-DD3B-4ED3-B227-DC7895C1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6A63-5954-412C-A142-6DE7547A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5D7-2931-498B-A9BC-2E9D463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AE2-F4EE-4A25-A462-A042EF2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DC0-AE85-4EB1-83E3-B8A14E37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E44-2481-44EF-ADDC-C780CDD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5DD-B1F6-4BB6-8F80-2353145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073-9BF7-4217-9413-C0A2149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328-1AB2-446D-A83C-C37F63F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645E-2401-4182-9377-BE8F748606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60E-A5BE-40AA-B8FC-C5F7120843B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airy Tale- Problem Solv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ttle Red Riding Hood walked from her house to Grandma’s house which is a total of 20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e stopped half way to pick some flowers for Grand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far had she walked so f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ter visiting Grandma she went back ho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far had she walked altoge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There are 20 sweets in the jar. Sam eats 7 sweets. How many are lef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a) In the field near Jane's house there are 6 sheep and 10 cows. How many animals are there altoge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b) The farmer takes 5 of the cows away in a trailer. How many animals are left in the field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 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5) Sarah leaves the house at 8 O’clock. It takes her half an hour to walk to school. What time does she get to school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5) Sarah leaves the house at 8 O’clock. It takes her half an hour to walk to school. What time does she get to school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6) Charlotte invited 12 children to her party. 4 children couldn’t come. How many children were at her part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7) Today 10 children had school lunches and 8 children had a packed lunch. How many children were at school toda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7) Today 10 children had school lunches and 8 children had a packed lunch. How many children were at school toda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8) Melanie had 10 sweets. She gave 6 to Chloe. How many sweets did Melanie hav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 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7) Today 10 children had school lunches and 8 children had a packed lunch. How many children were at school toda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8) Melanie had 10 sweets. She gave 6 to Chloe. How many sweets did Melanie hav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9) Daniel had 18 Pokemon cards. His Dad gave him 10 more. How many cards does Daniel have now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cc99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) There are 4 girls and 3 boys in the classroom. How many children are ther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cc99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) There are 4 girls and 3 boys in the classroom. How many children are ther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) Two children have 5 sweets each. How many sweets do they hav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cc99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) There are 4 girls and 3 boys in the classroom. How many children are ther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) Two children have 5 sweets each. How many sweets  do they hav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) 4 girls and 2 boys go home on Martin’s bus.  Martin gets off first. How many children left on the bu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Addi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There were 6 children in the sea 4 more came to swim. How many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airy Tale- Problem Solv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now White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found a cottage in a wood. Inside she found 7 beds. There was one quilt and one pillow on ea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ow many quilts and pillows were there altogether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he went into the kitchen and saw seven plates. Each plate had a knife, fork and spoon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hat was the total number of knives, forks and spoons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he went into the garage and saw 7 cars. Each had 4 wheels. How many wheels were there altogether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Addi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There were 6 children in the sea 4 more came to swim. How many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4 blue fish and 7 red fish. How many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Addi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There were 6 children in the sea 4 more came to swim. How many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4 blue fish and 7 red fish. How many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. There were 3 sharks and 12 fish swimming in the sea. How many fish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subtrac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A shark had 10 white teeth and 3 teeth fell out. How many teeth a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subtrac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A shark had 10 white teeth, 3 teeth fell out. How many teeth a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There were 10 beach balls in the sea. The shark popped 6 balls. How many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subtrac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A shark had 10 white teeth, 3 teeth fell out. How many teeth a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There were 10 beach balls in the sea. The shark popped 6 balls. How many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. There were 9 children swimming. The crab pinched 6 children’s toes. How many children didn’t get pinched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subtrac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There were 10 boats bobbing on the sea. 4 boats sank in the storm. How many boats we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ishing Problems </a:t>
            </a:r>
            <a:r>
              <a:rPr b="0" lang="en-US" sz="3000" spc="-1" strike="noStrike">
                <a:solidFill>
                  <a:srgbClr val="cc9900"/>
                </a:solidFill>
                <a:latin typeface="Comic Sans MS"/>
              </a:rPr>
              <a:t>(subtraction)</a:t>
            </a:r>
            <a:endParaRPr b="0" lang="en-US" sz="3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There were 10 boats bobbing on the sea. 4 boats sank in the storm. How many boats we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5. There were 8 lobsters on the bottom. 5 lobsters got caught, How many we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I have 10p and I spend 7p on a car. How much change do I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I have 10p and I spend 7p on a car. How much change do I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I buy a chocolate bar for 4p and an apple for 6p. How much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. I have 10p and I spend 7p on a car. How much change do I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. I buy a chocolate bar for 4p and an apple for 6p. How much do I spend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I spend 6p on sweets and 7p on chews. What is the total spen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Fairy Tale- Problem Solv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nderella went to the ball at 8 O'clock. Inside the ballroom there were 23 men (including Prince Charming) and 26 women (including Cinderella). How many people were there altogeth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dancing pairs were there? (1 Man and 1 Wom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people have no-one to dance wi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I buy a 9p ball and a 15p doll. How much do they cost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I buy a 9p ball and a 15p doll. How much do they cost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5. I have 10p. I buy a ball for 6p. How much change do I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Money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4. I buy a 9p ball and a 15p doll. How much do they cost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5. I have 10p. I buy a ball for 6p. How much change do I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6. I had a 20p piece. I bought a bat for 12p. How much money did I have left?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Fairy Tale- Problem Solving Cinderella Cont..</a:t>
            </a: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t 11 O’clock 4 people were tired and went home. How many were lef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t 12 O’clock 6 more people went home. How many were left?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inderella heard the clock chime 12 O’clock and ran away. How long had she been at the ball?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airy Tale- Problem Solv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inocch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nocchio's nose grows 2cm each time he tells a lie. On Monday he met Geppeto, Jiminy Cricket and his teach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told 2 lies to Geppeto, 1 lie to Jiminy Cricket and 5 lies to his teacher! What a naughty boy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 many lies did he tell altogether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at length did Pinocchio's nose increase by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) There are 2 apple trees in an orchard. Each tree has 4 apples on it. How many apples are ther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) There are 2 apple trees in an orchard. Each tree has 4 apples on it. How many apples are there altogether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) Tom goes in to a shop. He buys a sweet for 2p and a drink for 10p. How much has Tom spen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xtension: He gives the shop keeper 20p how much change does he ge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There are 20 sweets in the jar, Sam eats 7 sweets how many are lef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Comic Sans MS"/>
              </a:rPr>
              <a:t>Reception/Year 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There are 20 sweets in the jar, Sam eats 7 sweets how many are lef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a) In the field near Jane's house there are 6 sheep and 10 cows. How many animals are there altoge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0:33:54Z</dcterms:created>
  <dc:creator>Hertfordshire County Council</dc:creator>
  <dc:description/>
  <dc:language>en-US</dc:language>
  <cp:lastModifiedBy>Scoil Asicus</cp:lastModifiedBy>
  <cp:lastPrinted>2001-04-05T12:30:20Z</cp:lastPrinted>
  <dcterms:modified xsi:type="dcterms:W3CDTF">2013-12-12T13:19:25Z</dcterms:modified>
  <cp:revision>29</cp:revision>
  <dc:subject/>
  <dc:title>Year 1 Problem Solving</dc:title>
</cp:coreProperties>
</file>