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47D-5080-457E-A204-19D30FA9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DBE-FD00-4EA7-B845-3FF18101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E88-E6EE-4054-985D-807763A2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0B1-E0FE-4D98-9224-E47FCDEF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067-047A-4087-B240-B82A3990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A86-A5EC-4AB6-9269-649E2598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4BC-51A3-43A6-8C6F-2E57F94B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1B2-5E9E-40C5-BD36-9FC89539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B95-3209-43F4-B0D5-64F26900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B0D-3443-44FF-99C9-A061AF90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868-2E40-4EB2-8296-4FB2BD65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3D3-4CB1-4865-95B3-D2F66F3E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9D4F-507C-4E0F-A229-93196BC6D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ntrance Hym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D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o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ing! Sing! Sing allelu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is s the day the Lord has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ance! Dance! Dance allelu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is is the day the Lord has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rejoice and be gl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the day the Lord has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rejoice and be gl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th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 music to honour his na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day the Lord has mad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 psalms and songs of praise this is th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O the Word of my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O the word of my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Deep within my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O the word of my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You have filled my m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1. Before I formed you in the w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I knew you through and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I called you to be 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Before you left your mother’s s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I called to you my child to be my 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2. I know that you are very yo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But I will make you 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I’ll fill you with my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And you will travel through th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Fulfilling my command which you have he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3. And everywhere you are to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My hand will follow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You will not be 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And every time you fear, you’ll find me very 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Your words my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Circle of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ircle of friends all around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ircle of friends strong 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ircle of friends always there for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You have friends you are not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anks to them you’re not on your 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You are strong even when you feel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From the rain they will shelter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 your pain they will comfort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y will always pick you up when you f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ven when you are far 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o your friends you’re joined heart to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Far away you are not on your own - - -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You’re not there but they think of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 their prayers they remember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You are never ever truly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Light of Chr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The light of Christ has come into the world  (x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er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 must all be born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see the Kingdom of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water and the spirit b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life in God’s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Chorus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er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od gave up his only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ut of love for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o that all men who believe in him will live for 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Ver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The light of God has come to 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So that we might have sal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From the darkness of our sins we wal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into glory with Christ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en creation was be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en creation was begu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od had chosen you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other of his blessed S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ly Mary, full of g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ve, Ave, Ave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en creation was restor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ou were there beside the Lor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om you cherised and ado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ly Mary full of grace, Ave, Ave, Ave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l of us are children to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ften doubtful what to 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eding t confide in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ly Mary full of gr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ve, Ave, Ave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lessed be G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lessed be God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lessed be God for 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et us prepare the table, the table of the Lor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ith shining light of candles b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lessed be God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et us bring bread together to the table of the L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t will become the bread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lessed be God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et us bring wine together to the table of the L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t will become the blood of Chr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lessed be God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et us give thanks to God whol loves and feeds all peo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et us give praise, let us give tha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lessed be God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sponsorial Psal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shepherd is the Lo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shepherd is the Lor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ends all my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quiet streams he plants a drea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ace and love for 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hepherds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when I’m afrai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d and all al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ke my tears disappe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your touch of j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epherd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give me food to e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 me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give me rest as your gue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ver in your 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epherd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shepherd is the Lor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ends all my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quiet streams he plants a drea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ace and love for 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hepherds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ginning of Eucharist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Hol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y Holy Holy Lord God of power and m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en and earth are full of your gl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anna in the high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ed is He who comes in the name of the L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anna, Hosanna, Hosanna in the high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spel Acclam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is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Lord (x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risen from the dead and He is L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knee shall bow Every tongue conf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Jesus Christ is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but lively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mun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Happy in the Presence of the Lo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oru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ppy in the presence of the Lo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 come and sing our praise to Lord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ppy in the presence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 come and sing our praise to the Lord of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 and share the bread of lif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 that will feed us, help and protect 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 and share the stories of ol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ies of Jesus, his work and his world.  (Chor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and share the memories we’ve h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y days sad days, days full of jo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to tell the Lord that we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’ll live the life he told us to live. (Chor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c) Sing a Simple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 a simple song unto the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 a simple song unto the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 it with your hear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 it with your so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 a simple song unto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h Lord, I love yo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h Lord, I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h Lord, I love yo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see that You love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y a simple prayer unto the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y a simple prayer unto the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y it with your he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y it with your so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y a simple prayer unto the L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a simple gift unto the Lor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a simple gift unto the Lor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with your hear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with your so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a simple gift unto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ek ye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 ye firs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dom of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is righteou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ll these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ll be added un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lu, allelu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Chorus: Alleluia x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and it shall be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and you shall 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ck and the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 be opened un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lu, allelu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ru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 does not live by b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by every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proceeds from the mou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lu,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30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0920" y="3933720"/>
            <a:ext cx="8642160" cy="1295640"/>
            <a:chOff x="250920" y="3933720"/>
            <a:chExt cx="8642160" cy="1295640"/>
          </a:xfrm>
        </p:grpSpPr>
        <p:sp>
          <p:nvSpPr>
            <p:cNvPr id="102" name=""/>
            <p:cNvSpPr/>
            <p:nvPr/>
          </p:nvSpPr>
          <p:spPr>
            <a:xfrm>
              <a:off x="250920" y="4363920"/>
              <a:ext cx="576000" cy="57492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6920" y="4005360"/>
              <a:ext cx="574920" cy="57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24000" y="4437000"/>
              <a:ext cx="576360" cy="5745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7280" y="3933720"/>
              <a:ext cx="574560" cy="57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03640" y="4076640"/>
              <a:ext cx="574920" cy="57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08360" y="4437000"/>
              <a:ext cx="576360" cy="5745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4720" y="4292640"/>
              <a:ext cx="57636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17080" y="4653000"/>
              <a:ext cx="576000" cy="57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4360" y="4653000"/>
              <a:ext cx="576360" cy="57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8360" y="4508640"/>
              <a:ext cx="23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79280" y="2421000"/>
            <a:ext cx="8497800" cy="1297080"/>
            <a:chOff x="179280" y="2421000"/>
            <a:chExt cx="8497800" cy="1297080"/>
          </a:xfrm>
        </p:grpSpPr>
        <p:sp>
          <p:nvSpPr>
            <p:cNvPr id="113" name=""/>
            <p:cNvSpPr/>
            <p:nvPr/>
          </p:nvSpPr>
          <p:spPr>
            <a:xfrm>
              <a:off x="179280" y="2924280"/>
              <a:ext cx="576000" cy="576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87280" y="2421000"/>
              <a:ext cx="57636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08360" y="2421000"/>
              <a:ext cx="57600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12720" y="2924280"/>
              <a:ext cx="576360" cy="576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21080" y="2708280"/>
              <a:ext cx="576360" cy="5763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6720" y="3141720"/>
              <a:ext cx="576360" cy="576360"/>
            </a:xfrm>
            <a:prstGeom prst="ellipse">
              <a:avLst/>
            </a:prstGeom>
            <a:solidFill>
              <a:srgbClr val="fb15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C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00720" y="3141720"/>
              <a:ext cx="576360" cy="576360"/>
            </a:xfrm>
            <a:prstGeom prst="ellipse">
              <a:avLst/>
            </a:prstGeom>
            <a:solidFill>
              <a:srgbClr val="fb15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C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50920" y="476280"/>
            <a:ext cx="8281800" cy="1440000"/>
            <a:chOff x="250920" y="476280"/>
            <a:chExt cx="8281800" cy="1440000"/>
          </a:xfrm>
        </p:grpSpPr>
        <p:sp>
          <p:nvSpPr>
            <p:cNvPr id="121" name=""/>
            <p:cNvSpPr/>
            <p:nvPr/>
          </p:nvSpPr>
          <p:spPr>
            <a:xfrm>
              <a:off x="250920" y="979560"/>
              <a:ext cx="576000" cy="5745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3280" y="476280"/>
              <a:ext cx="574920" cy="57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64000" y="763560"/>
              <a:ext cx="57636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1640" y="979560"/>
              <a:ext cx="576360" cy="5763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4360" y="476280"/>
              <a:ext cx="574560" cy="57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59640" y="1339920"/>
              <a:ext cx="576360" cy="57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56720" y="1339920"/>
              <a:ext cx="576000" cy="57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16360" y="1050840"/>
              <a:ext cx="23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9080" y="619200"/>
              <a:ext cx="32076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9280" y="5589720"/>
            <a:ext cx="8642520" cy="1268280"/>
            <a:chOff x="179280" y="5589720"/>
            <a:chExt cx="8642520" cy="1268280"/>
          </a:xfrm>
        </p:grpSpPr>
        <p:sp>
          <p:nvSpPr>
            <p:cNvPr id="131" name=""/>
            <p:cNvSpPr/>
            <p:nvPr/>
          </p:nvSpPr>
          <p:spPr>
            <a:xfrm>
              <a:off x="179280" y="5877000"/>
              <a:ext cx="576360" cy="57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6920" y="5661000"/>
              <a:ext cx="57636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9640" y="5950080"/>
              <a:ext cx="576360" cy="576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56000" y="5661000"/>
              <a:ext cx="57600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3440" y="5734080"/>
              <a:ext cx="576360" cy="5745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61080" y="5589720"/>
              <a:ext cx="576000" cy="576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2720" y="5950080"/>
              <a:ext cx="576360" cy="576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56360" y="5805360"/>
              <a:ext cx="23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37440" y="6281640"/>
              <a:ext cx="576360" cy="576360"/>
            </a:xfrm>
            <a:prstGeom prst="ellipse">
              <a:avLst/>
            </a:prstGeom>
            <a:solidFill>
              <a:srgbClr val="fb15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45440" y="6281640"/>
              <a:ext cx="576360" cy="576360"/>
            </a:xfrm>
            <a:prstGeom prst="ellipse">
              <a:avLst/>
            </a:prstGeom>
            <a:solidFill>
              <a:srgbClr val="fb15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17080" y="630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n Faoile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3657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    C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 Dm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aoileán, faoileán ar an trá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Dm           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á tú uaigneach, cén fá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          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’imigh, d’imigh, d’im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rá mo chro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                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’fhág sí mé liom fé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 d’imigh s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1268280"/>
            <a:ext cx="421344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     C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Dm 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aoileán, faoileán ar an trá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Dm           </a:t>
            </a: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á bí uaigneach mar at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  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illfidh fillfidh fillfid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rá do chro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            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uigeann sí go bi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ur geal leat 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9880" y="6308640"/>
            <a:ext cx="35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rial"/>
              </a:rPr>
              <a:t>An Bealach Rúnda – Gael Li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5373720"/>
            <a:ext cx="16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Chord of </a:t>
            </a:r>
            <a:r>
              <a:rPr b="1" i="1" lang="en-IE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0000"/>
                </a:solidFill>
                <a:latin typeface="Arial"/>
              </a:rPr>
              <a:t>C 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96360" y="5373720"/>
            <a:ext cx="15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Chord of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D 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126828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411280" y="4708440"/>
            <a:ext cx="2183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Tony Chestn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       C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ny Chestnut knows I love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ny knows, Tony kn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      C          C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ny Chestnut knows I lov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    G       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at’s what Tony kn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 Maj = CEG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  G Maj = G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arting note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Get children to tap thei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Toe Knee Chest Nut (head) Nose Eye Love (heart) him (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00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ony Chestn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19640" y="3573360"/>
            <a:ext cx="569880" cy="448920"/>
            <a:chOff x="3419640" y="3573360"/>
            <a:chExt cx="569880" cy="448920"/>
          </a:xfrm>
        </p:grpSpPr>
        <p:grpSp>
          <p:nvGrpSpPr>
            <p:cNvPr id="155" name=""/>
            <p:cNvGrpSpPr/>
            <p:nvPr/>
          </p:nvGrpSpPr>
          <p:grpSpPr>
            <a:xfrm>
              <a:off x="3561840" y="3573360"/>
              <a:ext cx="427680" cy="397800"/>
              <a:chOff x="3561840" y="3573360"/>
              <a:chExt cx="427680" cy="397800"/>
            </a:xfrm>
          </p:grpSpPr>
          <p:sp>
            <p:nvSpPr>
              <p:cNvPr id="156" name=""/>
              <p:cNvSpPr/>
              <p:nvPr/>
            </p:nvSpPr>
            <p:spPr>
              <a:xfrm>
                <a:off x="397188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8272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6184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380664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1964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476360" y="1844640"/>
            <a:ext cx="569880" cy="448920"/>
            <a:chOff x="1476360" y="1844640"/>
            <a:chExt cx="569880" cy="448920"/>
          </a:xfrm>
        </p:grpSpPr>
        <p:grpSp>
          <p:nvGrpSpPr>
            <p:cNvPr id="162" name=""/>
            <p:cNvGrpSpPr/>
            <p:nvPr/>
          </p:nvGrpSpPr>
          <p:grpSpPr>
            <a:xfrm>
              <a:off x="1618560" y="1844640"/>
              <a:ext cx="427680" cy="397800"/>
              <a:chOff x="1618560" y="1844640"/>
              <a:chExt cx="427680" cy="397800"/>
            </a:xfrm>
          </p:grpSpPr>
          <p:sp>
            <p:nvSpPr>
              <p:cNvPr id="163" name=""/>
              <p:cNvSpPr/>
              <p:nvPr/>
            </p:nvSpPr>
            <p:spPr>
              <a:xfrm>
                <a:off x="2028600" y="184464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39440" y="185508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18560" y="184896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863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6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708360" y="1844640"/>
            <a:ext cx="569880" cy="448920"/>
            <a:chOff x="3708360" y="1844640"/>
            <a:chExt cx="569880" cy="448920"/>
          </a:xfrm>
        </p:grpSpPr>
        <p:grpSp>
          <p:nvGrpSpPr>
            <p:cNvPr id="169" name=""/>
            <p:cNvGrpSpPr/>
            <p:nvPr/>
          </p:nvGrpSpPr>
          <p:grpSpPr>
            <a:xfrm>
              <a:off x="3850560" y="1844640"/>
              <a:ext cx="427680" cy="397800"/>
              <a:chOff x="3850560" y="1844640"/>
              <a:chExt cx="427680" cy="397800"/>
            </a:xfrm>
          </p:grpSpPr>
          <p:sp>
            <p:nvSpPr>
              <p:cNvPr id="170" name=""/>
              <p:cNvSpPr/>
              <p:nvPr/>
            </p:nvSpPr>
            <p:spPr>
              <a:xfrm>
                <a:off x="4260600" y="184464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71440" y="185508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50560" y="184896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095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08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627280" y="1844640"/>
            <a:ext cx="569880" cy="448920"/>
            <a:chOff x="2627280" y="1844640"/>
            <a:chExt cx="569880" cy="448920"/>
          </a:xfrm>
        </p:grpSpPr>
        <p:grpSp>
          <p:nvGrpSpPr>
            <p:cNvPr id="176" name=""/>
            <p:cNvGrpSpPr/>
            <p:nvPr/>
          </p:nvGrpSpPr>
          <p:grpSpPr>
            <a:xfrm>
              <a:off x="2769480" y="1844640"/>
              <a:ext cx="427680" cy="397800"/>
              <a:chOff x="2769480" y="1844640"/>
              <a:chExt cx="427680" cy="397800"/>
            </a:xfrm>
          </p:grpSpPr>
          <p:sp>
            <p:nvSpPr>
              <p:cNvPr id="177" name=""/>
              <p:cNvSpPr/>
              <p:nvPr/>
            </p:nvSpPr>
            <p:spPr>
              <a:xfrm>
                <a:off x="3179520" y="184464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90360" y="185508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769480" y="184896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01428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728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500720" y="1773360"/>
            <a:ext cx="1440" cy="47772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788000" y="1844640"/>
            <a:ext cx="569880" cy="448920"/>
            <a:chOff x="4788000" y="1844640"/>
            <a:chExt cx="569880" cy="448920"/>
          </a:xfrm>
        </p:grpSpPr>
        <p:grpSp>
          <p:nvGrpSpPr>
            <p:cNvPr id="184" name=""/>
            <p:cNvGrpSpPr/>
            <p:nvPr/>
          </p:nvGrpSpPr>
          <p:grpSpPr>
            <a:xfrm>
              <a:off x="4930200" y="1844640"/>
              <a:ext cx="427680" cy="397800"/>
              <a:chOff x="4930200" y="1844640"/>
              <a:chExt cx="427680" cy="39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5340240" y="184464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51080" y="185508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30200" y="184896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17500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8800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372360" y="1773360"/>
            <a:ext cx="569880" cy="520560"/>
            <a:chOff x="6372360" y="1773360"/>
            <a:chExt cx="569880" cy="520560"/>
          </a:xfrm>
        </p:grpSpPr>
        <p:grpSp>
          <p:nvGrpSpPr>
            <p:cNvPr id="191" name=""/>
            <p:cNvGrpSpPr/>
            <p:nvPr/>
          </p:nvGrpSpPr>
          <p:grpSpPr>
            <a:xfrm>
              <a:off x="6514560" y="1773360"/>
              <a:ext cx="427680" cy="460800"/>
              <a:chOff x="6514560" y="1773360"/>
              <a:chExt cx="427680" cy="460800"/>
            </a:xfrm>
          </p:grpSpPr>
          <p:sp>
            <p:nvSpPr>
              <p:cNvPr id="192" name=""/>
              <p:cNvSpPr/>
              <p:nvPr/>
            </p:nvSpPr>
            <p:spPr>
              <a:xfrm>
                <a:off x="6924600" y="1773360"/>
                <a:ext cx="360" cy="46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35440" y="1785600"/>
                <a:ext cx="3240" cy="44856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14560" y="177840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759360" y="2163960"/>
              <a:ext cx="167040" cy="12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72360" y="2163960"/>
              <a:ext cx="167040" cy="12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796000" y="1844640"/>
            <a:ext cx="181080" cy="474840"/>
            <a:chOff x="5796000" y="1844640"/>
            <a:chExt cx="181080" cy="474840"/>
          </a:xfrm>
        </p:grpSpPr>
        <p:sp>
          <p:nvSpPr>
            <p:cNvPr id="198" name=""/>
            <p:cNvSpPr/>
            <p:nvPr/>
          </p:nvSpPr>
          <p:spPr>
            <a:xfrm>
              <a:off x="5975640" y="1844640"/>
              <a:ext cx="1080" cy="42336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6000" y="2192760"/>
              <a:ext cx="181080" cy="1267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451640" y="1773360"/>
            <a:ext cx="181080" cy="474480"/>
            <a:chOff x="7451640" y="1773360"/>
            <a:chExt cx="181080" cy="474480"/>
          </a:xfrm>
        </p:grpSpPr>
        <p:sp>
          <p:nvSpPr>
            <p:cNvPr id="201" name=""/>
            <p:cNvSpPr/>
            <p:nvPr/>
          </p:nvSpPr>
          <p:spPr>
            <a:xfrm>
              <a:off x="7631280" y="1773360"/>
              <a:ext cx="1080" cy="4230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1640" y="2121120"/>
              <a:ext cx="181080" cy="1267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8244000" y="1844640"/>
            <a:ext cx="1440" cy="47772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68360" y="1844640"/>
            <a:ext cx="569880" cy="448920"/>
            <a:chOff x="468360" y="1844640"/>
            <a:chExt cx="569880" cy="448920"/>
          </a:xfrm>
        </p:grpSpPr>
        <p:grpSp>
          <p:nvGrpSpPr>
            <p:cNvPr id="205" name=""/>
            <p:cNvGrpSpPr/>
            <p:nvPr/>
          </p:nvGrpSpPr>
          <p:grpSpPr>
            <a:xfrm>
              <a:off x="610560" y="1844640"/>
              <a:ext cx="427680" cy="397800"/>
              <a:chOff x="610560" y="1844640"/>
              <a:chExt cx="427680" cy="397800"/>
            </a:xfrm>
          </p:grpSpPr>
          <p:sp>
            <p:nvSpPr>
              <p:cNvPr id="206" name=""/>
              <p:cNvSpPr/>
              <p:nvPr/>
            </p:nvSpPr>
            <p:spPr>
              <a:xfrm>
                <a:off x="1020600" y="184464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31440" y="185508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0560" y="184896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855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8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484360" y="3573360"/>
            <a:ext cx="569880" cy="448920"/>
            <a:chOff x="2484360" y="3573360"/>
            <a:chExt cx="569880" cy="448920"/>
          </a:xfrm>
        </p:grpSpPr>
        <p:grpSp>
          <p:nvGrpSpPr>
            <p:cNvPr id="212" name=""/>
            <p:cNvGrpSpPr/>
            <p:nvPr/>
          </p:nvGrpSpPr>
          <p:grpSpPr>
            <a:xfrm>
              <a:off x="2626560" y="3573360"/>
              <a:ext cx="427680" cy="397800"/>
              <a:chOff x="2626560" y="3573360"/>
              <a:chExt cx="427680" cy="397800"/>
            </a:xfrm>
          </p:grpSpPr>
          <p:sp>
            <p:nvSpPr>
              <p:cNvPr id="213" name=""/>
              <p:cNvSpPr/>
              <p:nvPr/>
            </p:nvSpPr>
            <p:spPr>
              <a:xfrm>
                <a:off x="303660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64744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2656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87136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8436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24000" y="3573360"/>
            <a:ext cx="569880" cy="448920"/>
            <a:chOff x="324000" y="3573360"/>
            <a:chExt cx="569880" cy="448920"/>
          </a:xfrm>
        </p:grpSpPr>
        <p:grpSp>
          <p:nvGrpSpPr>
            <p:cNvPr id="219" name=""/>
            <p:cNvGrpSpPr/>
            <p:nvPr/>
          </p:nvGrpSpPr>
          <p:grpSpPr>
            <a:xfrm>
              <a:off x="466200" y="3573360"/>
              <a:ext cx="427680" cy="397800"/>
              <a:chOff x="466200" y="3573360"/>
              <a:chExt cx="427680" cy="397800"/>
            </a:xfrm>
          </p:grpSpPr>
          <p:sp>
            <p:nvSpPr>
              <p:cNvPr id="220" name=""/>
              <p:cNvSpPr/>
              <p:nvPr/>
            </p:nvSpPr>
            <p:spPr>
              <a:xfrm>
                <a:off x="87624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8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620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1100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00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403280" y="3573360"/>
            <a:ext cx="569880" cy="448920"/>
            <a:chOff x="1403280" y="3573360"/>
            <a:chExt cx="569880" cy="448920"/>
          </a:xfrm>
        </p:grpSpPr>
        <p:grpSp>
          <p:nvGrpSpPr>
            <p:cNvPr id="226" name=""/>
            <p:cNvGrpSpPr/>
            <p:nvPr/>
          </p:nvGrpSpPr>
          <p:grpSpPr>
            <a:xfrm>
              <a:off x="1545480" y="3573360"/>
              <a:ext cx="427680" cy="397800"/>
              <a:chOff x="1545480" y="3573360"/>
              <a:chExt cx="427680" cy="397800"/>
            </a:xfrm>
          </p:grpSpPr>
          <p:sp>
            <p:nvSpPr>
              <p:cNvPr id="227" name=""/>
              <p:cNvSpPr/>
              <p:nvPr/>
            </p:nvSpPr>
            <p:spPr>
              <a:xfrm>
                <a:off x="195552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56636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4548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79028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0328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356000" y="3573360"/>
            <a:ext cx="1800" cy="47808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643280" y="3573360"/>
            <a:ext cx="569880" cy="448920"/>
            <a:chOff x="4643280" y="3573360"/>
            <a:chExt cx="569880" cy="448920"/>
          </a:xfrm>
        </p:grpSpPr>
        <p:grpSp>
          <p:nvGrpSpPr>
            <p:cNvPr id="234" name=""/>
            <p:cNvGrpSpPr/>
            <p:nvPr/>
          </p:nvGrpSpPr>
          <p:grpSpPr>
            <a:xfrm>
              <a:off x="4785480" y="3573360"/>
              <a:ext cx="427680" cy="397800"/>
              <a:chOff x="4785480" y="3573360"/>
              <a:chExt cx="427680" cy="397800"/>
            </a:xfrm>
          </p:grpSpPr>
          <p:sp>
            <p:nvSpPr>
              <p:cNvPr id="235" name=""/>
              <p:cNvSpPr/>
              <p:nvPr/>
            </p:nvSpPr>
            <p:spPr>
              <a:xfrm>
                <a:off x="519552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0636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8548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503028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328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651640" y="3573360"/>
            <a:ext cx="569880" cy="448920"/>
            <a:chOff x="5651640" y="3573360"/>
            <a:chExt cx="569880" cy="448920"/>
          </a:xfrm>
        </p:grpSpPr>
        <p:grpSp>
          <p:nvGrpSpPr>
            <p:cNvPr id="241" name=""/>
            <p:cNvGrpSpPr/>
            <p:nvPr/>
          </p:nvGrpSpPr>
          <p:grpSpPr>
            <a:xfrm>
              <a:off x="5793840" y="3573360"/>
              <a:ext cx="427680" cy="397800"/>
              <a:chOff x="5793840" y="3573360"/>
              <a:chExt cx="427680" cy="397800"/>
            </a:xfrm>
          </p:grpSpPr>
          <p:sp>
            <p:nvSpPr>
              <p:cNvPr id="242" name=""/>
              <p:cNvSpPr/>
              <p:nvPr/>
            </p:nvSpPr>
            <p:spPr>
              <a:xfrm>
                <a:off x="620388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1472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9384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03864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5164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732720" y="3573360"/>
            <a:ext cx="180720" cy="474840"/>
            <a:chOff x="6732720" y="3573360"/>
            <a:chExt cx="180720" cy="474840"/>
          </a:xfrm>
        </p:grpSpPr>
        <p:sp>
          <p:nvSpPr>
            <p:cNvPr id="248" name=""/>
            <p:cNvSpPr/>
            <p:nvPr/>
          </p:nvSpPr>
          <p:spPr>
            <a:xfrm>
              <a:off x="6912000" y="3573360"/>
              <a:ext cx="1440" cy="42336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32720" y="3921480"/>
              <a:ext cx="180720" cy="12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172360" y="3573360"/>
            <a:ext cx="1800" cy="47808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2781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   A        G   E           G   A        G    E        D    E       F       E    F       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450864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   A        G    E        G    A       G   E          D   F       E     D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ginning of Eucharist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Hol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y Holy Holy Lord God of power and m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en and earth are full of your gl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anna in the high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ed is He who comes in the name of the L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anna, Hosanna, Hosanna in the high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éad Míle Fáilte rom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éad míle fáilte rom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íosa, a  í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éad míle fáilte rom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í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éad míle fáilte romh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Shlánaitheo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éad míle, míle fáilte romh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Íosa a í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lór agus moladh duit a íosa, a í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lór agus moladh duit a í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lór agus moladh d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Shlánaithe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lór moladh agus buíochas d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Íosa, a í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alk in th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's all join together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on sweet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, walk, in th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love one another t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viour we meet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, walk, in the l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 in the light (x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 in the light of G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us did just what He said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, walk, in th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ealed the sick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aised the d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, walk, in the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n again that's not the end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, walk, in th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lives today, He'll b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end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, walk, in the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mazing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azing Gr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weet the sou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saved a wretch like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once was lost but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 fou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blind, but now, I se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'was Grace that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heart to f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race, my fears rel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precious did that Gr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our I first believ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 many dangers, toils and s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already c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'was Grace that brought us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fa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race will lead us ho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peat first 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st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ahweh, as we talk with you, lis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we like to walk with you , lis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ven when we whis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 know you can he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ahweh, as we talk with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ahweh, when we pray to you, lis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the things we say to you, lis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each us to be good in all we say and 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ahweh, when we pray to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ildren gather round the Lord, lis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the message of his word, lis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 says: “Love one another as I have loved you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 has taught us what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ahweh, as we sing to you, lis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appy voices ring to you, lis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 praise and bless and thank you for the love we sh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ahweh, as we sing to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 All the Nations of the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the Nations of 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aise the Lord who brings to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reatest star, the smallest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l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heavens praise the L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el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 and stars praise the Lord  Allel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-capped mountains praise the Lord Allel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hills, praise the Lord Allel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sea water, praise the Lord Allel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tle rain, praise the Lord,Allelu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o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s and princes, praise the Lord, Allel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and old, praise the Lord. Allel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o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orning has bro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orning has broken, like the first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lackbird has spoken like the first b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aise for the sing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aise for the morn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aise for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pri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resh for m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weet the rains new fall, sunlit from he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ike the first dewfall on the first gr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aise for the sweetness of the wet ga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prung in completeness where His feet p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ne is the sunlight mine is the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orn of the one light Eden saw pla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aise with elation praise every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od’s recreation of the new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o this in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Cho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ing praise and than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Je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ft up your hearts to Je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alk tall in the love of Je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o this in memory of Him, of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o this in memory of Je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ake bread and wine blessed and bro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ve in your life the words He has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Cho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rust in His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alk in His w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hare with the world His peace his pra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Cho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e still and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62320" y="1600200"/>
            <a:ext cx="180720" cy="476280"/>
            <a:chOff x="2362320" y="1600200"/>
            <a:chExt cx="180720" cy="476280"/>
          </a:xfrm>
        </p:grpSpPr>
        <p:sp>
          <p:nvSpPr>
            <p:cNvPr id="276" name=""/>
            <p:cNvSpPr/>
            <p:nvPr/>
          </p:nvSpPr>
          <p:spPr>
            <a:xfrm>
              <a:off x="2541600" y="16002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2320" y="1949400"/>
              <a:ext cx="18072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809880" y="1600200"/>
            <a:ext cx="181080" cy="474840"/>
            <a:chOff x="3809880" y="1600200"/>
            <a:chExt cx="181080" cy="474840"/>
          </a:xfrm>
        </p:grpSpPr>
        <p:sp>
          <p:nvSpPr>
            <p:cNvPr id="279" name=""/>
            <p:cNvSpPr/>
            <p:nvPr/>
          </p:nvSpPr>
          <p:spPr>
            <a:xfrm>
              <a:off x="3989520" y="1600200"/>
              <a:ext cx="1440" cy="42336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09880" y="1948320"/>
              <a:ext cx="181080" cy="12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543800" y="1600200"/>
            <a:ext cx="181080" cy="474840"/>
            <a:chOff x="7543800" y="1600200"/>
            <a:chExt cx="181080" cy="474840"/>
          </a:xfrm>
        </p:grpSpPr>
        <p:sp>
          <p:nvSpPr>
            <p:cNvPr id="282" name=""/>
            <p:cNvSpPr/>
            <p:nvPr/>
          </p:nvSpPr>
          <p:spPr>
            <a:xfrm>
              <a:off x="7723440" y="1600200"/>
              <a:ext cx="1440" cy="42336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43800" y="1948320"/>
              <a:ext cx="181080" cy="12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733920" y="3352680"/>
            <a:ext cx="180720" cy="474840"/>
            <a:chOff x="3733920" y="3352680"/>
            <a:chExt cx="180720" cy="474840"/>
          </a:xfrm>
        </p:grpSpPr>
        <p:sp>
          <p:nvSpPr>
            <p:cNvPr id="285" name=""/>
            <p:cNvSpPr/>
            <p:nvPr/>
          </p:nvSpPr>
          <p:spPr>
            <a:xfrm>
              <a:off x="3913200" y="3352680"/>
              <a:ext cx="1440" cy="42336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33920" y="3700800"/>
              <a:ext cx="180720" cy="12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620120" y="3352680"/>
            <a:ext cx="180720" cy="474840"/>
            <a:chOff x="7620120" y="3352680"/>
            <a:chExt cx="180720" cy="474840"/>
          </a:xfrm>
        </p:grpSpPr>
        <p:sp>
          <p:nvSpPr>
            <p:cNvPr id="288" name=""/>
            <p:cNvSpPr/>
            <p:nvPr/>
          </p:nvSpPr>
          <p:spPr>
            <a:xfrm>
              <a:off x="7799400" y="3352680"/>
              <a:ext cx="1440" cy="42336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0120" y="3700800"/>
              <a:ext cx="180720" cy="12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733920" y="5486400"/>
            <a:ext cx="180720" cy="474840"/>
            <a:chOff x="3733920" y="5486400"/>
            <a:chExt cx="180720" cy="474840"/>
          </a:xfrm>
        </p:grpSpPr>
        <p:sp>
          <p:nvSpPr>
            <p:cNvPr id="291" name=""/>
            <p:cNvSpPr/>
            <p:nvPr/>
          </p:nvSpPr>
          <p:spPr>
            <a:xfrm>
              <a:off x="3913200" y="5486400"/>
              <a:ext cx="1440" cy="42336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3920" y="5834520"/>
              <a:ext cx="180720" cy="12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696080" y="5334120"/>
            <a:ext cx="181080" cy="474480"/>
            <a:chOff x="7696080" y="5334120"/>
            <a:chExt cx="181080" cy="474480"/>
          </a:xfrm>
        </p:grpSpPr>
        <p:sp>
          <p:nvSpPr>
            <p:cNvPr id="294" name=""/>
            <p:cNvSpPr/>
            <p:nvPr/>
          </p:nvSpPr>
          <p:spPr>
            <a:xfrm>
              <a:off x="7875720" y="5334120"/>
              <a:ext cx="1440" cy="4230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96080" y="5681880"/>
              <a:ext cx="181080" cy="12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410080" y="5410080"/>
            <a:ext cx="181080" cy="474840"/>
            <a:chOff x="5410080" y="5410080"/>
            <a:chExt cx="181080" cy="474840"/>
          </a:xfrm>
        </p:grpSpPr>
        <p:sp>
          <p:nvSpPr>
            <p:cNvPr id="297" name=""/>
            <p:cNvSpPr/>
            <p:nvPr/>
          </p:nvSpPr>
          <p:spPr>
            <a:xfrm>
              <a:off x="5589720" y="5410080"/>
              <a:ext cx="1440" cy="42336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10080" y="5758200"/>
              <a:ext cx="181080" cy="12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781680" y="1600200"/>
            <a:ext cx="181080" cy="476280"/>
            <a:chOff x="6781680" y="1600200"/>
            <a:chExt cx="181080" cy="476280"/>
          </a:xfrm>
        </p:grpSpPr>
        <p:sp>
          <p:nvSpPr>
            <p:cNvPr id="300" name=""/>
            <p:cNvSpPr/>
            <p:nvPr/>
          </p:nvSpPr>
          <p:spPr>
            <a:xfrm>
              <a:off x="6961320" y="16002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1680" y="194940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172200" y="1600200"/>
            <a:ext cx="181080" cy="476280"/>
            <a:chOff x="6172200" y="1600200"/>
            <a:chExt cx="181080" cy="476280"/>
          </a:xfrm>
        </p:grpSpPr>
        <p:sp>
          <p:nvSpPr>
            <p:cNvPr id="303" name=""/>
            <p:cNvSpPr/>
            <p:nvPr/>
          </p:nvSpPr>
          <p:spPr>
            <a:xfrm>
              <a:off x="6351840" y="16002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72200" y="194940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62120" y="1600200"/>
            <a:ext cx="180720" cy="476280"/>
            <a:chOff x="762120" y="1600200"/>
            <a:chExt cx="180720" cy="476280"/>
          </a:xfrm>
        </p:grpSpPr>
        <p:sp>
          <p:nvSpPr>
            <p:cNvPr id="306" name=""/>
            <p:cNvSpPr/>
            <p:nvPr/>
          </p:nvSpPr>
          <p:spPr>
            <a:xfrm>
              <a:off x="941400" y="16002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120" y="1949400"/>
              <a:ext cx="18072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523880" y="1600200"/>
            <a:ext cx="181080" cy="476280"/>
            <a:chOff x="1523880" y="1600200"/>
            <a:chExt cx="181080" cy="476280"/>
          </a:xfrm>
        </p:grpSpPr>
        <p:sp>
          <p:nvSpPr>
            <p:cNvPr id="309" name=""/>
            <p:cNvSpPr/>
            <p:nvPr/>
          </p:nvSpPr>
          <p:spPr>
            <a:xfrm>
              <a:off x="1703520" y="16002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3880" y="194940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724280" y="1600200"/>
            <a:ext cx="181080" cy="476280"/>
            <a:chOff x="4724280" y="1600200"/>
            <a:chExt cx="181080" cy="476280"/>
          </a:xfrm>
        </p:grpSpPr>
        <p:sp>
          <p:nvSpPr>
            <p:cNvPr id="312" name=""/>
            <p:cNvSpPr/>
            <p:nvPr/>
          </p:nvSpPr>
          <p:spPr>
            <a:xfrm>
              <a:off x="4903920" y="16002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24280" y="194940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200400" y="1600200"/>
            <a:ext cx="181080" cy="476280"/>
            <a:chOff x="3200400" y="1600200"/>
            <a:chExt cx="181080" cy="476280"/>
          </a:xfrm>
        </p:grpSpPr>
        <p:sp>
          <p:nvSpPr>
            <p:cNvPr id="315" name=""/>
            <p:cNvSpPr/>
            <p:nvPr/>
          </p:nvSpPr>
          <p:spPr>
            <a:xfrm>
              <a:off x="3380040" y="16002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0400" y="194940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486400" y="1600200"/>
            <a:ext cx="181080" cy="476280"/>
            <a:chOff x="5486400" y="1600200"/>
            <a:chExt cx="181080" cy="476280"/>
          </a:xfrm>
        </p:grpSpPr>
        <p:sp>
          <p:nvSpPr>
            <p:cNvPr id="318" name=""/>
            <p:cNvSpPr/>
            <p:nvPr/>
          </p:nvSpPr>
          <p:spPr>
            <a:xfrm>
              <a:off x="5666040" y="16002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86400" y="194940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447920" y="3352680"/>
            <a:ext cx="180720" cy="476280"/>
            <a:chOff x="1447920" y="3352680"/>
            <a:chExt cx="180720" cy="476280"/>
          </a:xfrm>
        </p:grpSpPr>
        <p:sp>
          <p:nvSpPr>
            <p:cNvPr id="321" name=""/>
            <p:cNvSpPr/>
            <p:nvPr/>
          </p:nvSpPr>
          <p:spPr>
            <a:xfrm>
              <a:off x="1627200" y="335268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3701880"/>
              <a:ext cx="18072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86000" y="3352680"/>
            <a:ext cx="181080" cy="476280"/>
            <a:chOff x="2286000" y="3352680"/>
            <a:chExt cx="181080" cy="476280"/>
          </a:xfrm>
        </p:grpSpPr>
        <p:sp>
          <p:nvSpPr>
            <p:cNvPr id="324" name=""/>
            <p:cNvSpPr/>
            <p:nvPr/>
          </p:nvSpPr>
          <p:spPr>
            <a:xfrm>
              <a:off x="2465640" y="335268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0" y="370188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048120" y="3352680"/>
            <a:ext cx="180720" cy="476280"/>
            <a:chOff x="3048120" y="3352680"/>
            <a:chExt cx="180720" cy="476280"/>
          </a:xfrm>
        </p:grpSpPr>
        <p:sp>
          <p:nvSpPr>
            <p:cNvPr id="327" name=""/>
            <p:cNvSpPr/>
            <p:nvPr/>
          </p:nvSpPr>
          <p:spPr>
            <a:xfrm>
              <a:off x="3227400" y="335268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48120" y="3701880"/>
              <a:ext cx="18072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648320" y="3352680"/>
            <a:ext cx="180720" cy="476280"/>
            <a:chOff x="4648320" y="3352680"/>
            <a:chExt cx="180720" cy="476280"/>
          </a:xfrm>
        </p:grpSpPr>
        <p:sp>
          <p:nvSpPr>
            <p:cNvPr id="330" name=""/>
            <p:cNvSpPr/>
            <p:nvPr/>
          </p:nvSpPr>
          <p:spPr>
            <a:xfrm>
              <a:off x="4827600" y="335268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48320" y="3701880"/>
              <a:ext cx="18072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09480" y="3429000"/>
            <a:ext cx="181080" cy="476280"/>
            <a:chOff x="609480" y="3429000"/>
            <a:chExt cx="181080" cy="476280"/>
          </a:xfrm>
        </p:grpSpPr>
        <p:sp>
          <p:nvSpPr>
            <p:cNvPr id="333" name=""/>
            <p:cNvSpPr/>
            <p:nvPr/>
          </p:nvSpPr>
          <p:spPr>
            <a:xfrm>
              <a:off x="789120" y="34290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9480" y="377820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486400" y="3352680"/>
            <a:ext cx="181080" cy="476280"/>
            <a:chOff x="5486400" y="3352680"/>
            <a:chExt cx="181080" cy="476280"/>
          </a:xfrm>
        </p:grpSpPr>
        <p:sp>
          <p:nvSpPr>
            <p:cNvPr id="336" name=""/>
            <p:cNvSpPr/>
            <p:nvPr/>
          </p:nvSpPr>
          <p:spPr>
            <a:xfrm>
              <a:off x="5666040" y="335268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6400" y="370188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04920" y="22860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G         G          E           A        G           G         G         D       F        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172200" y="3352680"/>
            <a:ext cx="181080" cy="476280"/>
            <a:chOff x="6172200" y="3352680"/>
            <a:chExt cx="181080" cy="476280"/>
          </a:xfrm>
        </p:grpSpPr>
        <p:sp>
          <p:nvSpPr>
            <p:cNvPr id="340" name=""/>
            <p:cNvSpPr/>
            <p:nvPr/>
          </p:nvSpPr>
          <p:spPr>
            <a:xfrm>
              <a:off x="6351840" y="335268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72200" y="370188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3352680"/>
            <a:ext cx="181080" cy="476280"/>
            <a:chOff x="6781680" y="3352680"/>
            <a:chExt cx="181080" cy="476280"/>
          </a:xfrm>
        </p:grpSpPr>
        <p:sp>
          <p:nvSpPr>
            <p:cNvPr id="343" name=""/>
            <p:cNvSpPr/>
            <p:nvPr/>
          </p:nvSpPr>
          <p:spPr>
            <a:xfrm>
              <a:off x="6961320" y="335268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81680" y="370188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57200" y="5486400"/>
            <a:ext cx="181080" cy="476280"/>
            <a:chOff x="457200" y="5486400"/>
            <a:chExt cx="181080" cy="476280"/>
          </a:xfrm>
        </p:grpSpPr>
        <p:sp>
          <p:nvSpPr>
            <p:cNvPr id="346" name=""/>
            <p:cNvSpPr/>
            <p:nvPr/>
          </p:nvSpPr>
          <p:spPr>
            <a:xfrm>
              <a:off x="636840" y="54864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" y="583560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371600" y="5486400"/>
            <a:ext cx="181080" cy="476280"/>
            <a:chOff x="1371600" y="5486400"/>
            <a:chExt cx="181080" cy="476280"/>
          </a:xfrm>
        </p:grpSpPr>
        <p:sp>
          <p:nvSpPr>
            <p:cNvPr id="349" name=""/>
            <p:cNvSpPr/>
            <p:nvPr/>
          </p:nvSpPr>
          <p:spPr>
            <a:xfrm>
              <a:off x="1551240" y="54864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71600" y="583560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133720" y="5486400"/>
            <a:ext cx="180720" cy="476280"/>
            <a:chOff x="2133720" y="5486400"/>
            <a:chExt cx="180720" cy="476280"/>
          </a:xfrm>
        </p:grpSpPr>
        <p:sp>
          <p:nvSpPr>
            <p:cNvPr id="352" name=""/>
            <p:cNvSpPr/>
            <p:nvPr/>
          </p:nvSpPr>
          <p:spPr>
            <a:xfrm>
              <a:off x="2313000" y="54864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33720" y="5835600"/>
              <a:ext cx="18072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457200" y="4343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E           E           F          G        A           A           A         B       C’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971800" y="5486400"/>
            <a:ext cx="181080" cy="476280"/>
            <a:chOff x="2971800" y="5486400"/>
            <a:chExt cx="181080" cy="476280"/>
          </a:xfrm>
        </p:grpSpPr>
        <p:sp>
          <p:nvSpPr>
            <p:cNvPr id="356" name=""/>
            <p:cNvSpPr/>
            <p:nvPr/>
          </p:nvSpPr>
          <p:spPr>
            <a:xfrm>
              <a:off x="3151440" y="54864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71800" y="583560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495680" y="5486400"/>
            <a:ext cx="181080" cy="476280"/>
            <a:chOff x="4495680" y="5486400"/>
            <a:chExt cx="181080" cy="476280"/>
          </a:xfrm>
        </p:grpSpPr>
        <p:sp>
          <p:nvSpPr>
            <p:cNvPr id="359" name=""/>
            <p:cNvSpPr/>
            <p:nvPr/>
          </p:nvSpPr>
          <p:spPr>
            <a:xfrm>
              <a:off x="4675320" y="548640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95680" y="5835600"/>
              <a:ext cx="18108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705720" y="5334120"/>
            <a:ext cx="180720" cy="476280"/>
            <a:chOff x="6705720" y="5334120"/>
            <a:chExt cx="180720" cy="476280"/>
          </a:xfrm>
        </p:grpSpPr>
        <p:sp>
          <p:nvSpPr>
            <p:cNvPr id="362" name=""/>
            <p:cNvSpPr/>
            <p:nvPr/>
          </p:nvSpPr>
          <p:spPr>
            <a:xfrm>
              <a:off x="6885000" y="5334120"/>
              <a:ext cx="1080" cy="4248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5683320"/>
              <a:ext cx="180720" cy="12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80880" y="62485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B            C’        G          A          G          F            E                  D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95480" y="1676520"/>
            <a:ext cx="1800" cy="47772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1676520"/>
            <a:ext cx="1440" cy="47772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53080" y="1600200"/>
            <a:ext cx="1800" cy="47772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3429000"/>
            <a:ext cx="1440" cy="47772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19720" y="3352680"/>
            <a:ext cx="1440" cy="47808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3352680"/>
            <a:ext cx="1800" cy="47808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66880" y="5562720"/>
            <a:ext cx="1800" cy="47772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67080" y="5486400"/>
            <a:ext cx="1800" cy="47772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5410080"/>
            <a:ext cx="1440" cy="47808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Father we adore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ather we ador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ay our lives before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ow we lov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Jesus we ador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ay our lives befor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ow we lov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pirit we ador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ay our lives befor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ow we lov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Recessional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urs of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urs of day dawn into the mi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 has come 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ight i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down in the cit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the stre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's give th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people we me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horu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 light up the f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 let the flame bur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pen the doo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t Jesus retur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ke seeds of his Spir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t the fruit gro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ll the people of Jes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t his love sh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your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into the sk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rkness has co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 came to d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ing draws 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 disappe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Jesus is liv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is Spirit is n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hor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By the rivers of Baby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Comic Sans MS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the rivers of Babyl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we sat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-eah we w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we remembered Zion. (x2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the wi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ried us away in cap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d from us a s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 how shall we sing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rd's song in a strange land? (x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Comic Sans MS"/>
              </a:rPr>
              <a:t>Cho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the words of our mou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the meditation of our he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acceptable in thy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 tonight  (x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Comic Sans MS"/>
              </a:rPr>
              <a:t>Chorus x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bba F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Cho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Abba Father send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Spir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Glory Jesus Christ  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 will give you living water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f you seek me you will find me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f you listen you will hear m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e my children I will teach you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’m your shepherd I will lead you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eace I leave you  peace I give you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lleluia accompan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EF AFD GFG 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- F AFD GFG EF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EF AFD GFG 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ED EDE  D-  D-E  ( 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is little light of 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is little light of 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m going to let it s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( x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et it s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et it sh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et it sh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2. Everywhere I go I’m going to let it s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(X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et it shin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3. Even when I’m afraid I’m going to let it shine (x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et it shin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We sing a song to Brig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sing a song to Brigi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igid brings the 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wakens all the fields and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calls the birds to s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were welcome at her door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one was turned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e loved the poor, the sick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o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e helped them on their way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e laid her cloak out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watched it grow and gro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wells and streams and fields of 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. Brigid’s blessings flow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Over my Head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ver my head  I hear music in the air (x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re must be a God (x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re must be a God som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me and see he has rolled away the stone (x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re must be a God som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ver my head I hear singing in the air (x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re must be a God som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me and see he is risen from the dead (x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re must be a God (x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re must be a God som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ver my head I see Jesus in the air (x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re must be a God (x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re must be a God som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Christ is my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1. Christ is my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Lights up m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Fills me with j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Shows me th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Fills me with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Fills me with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Fills me with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Which is gentle and f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2. Christ is my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He leads me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Fills me with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When things go wr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3. Christ is my 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Helps me to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Fills me with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Makes me bel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3. Christ is my 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Helps me to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Fills me with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Makes me bel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I feel His presence here</a:t>
            </a:r>
            <a:br>
              <a:rPr sz="4000"/>
            </a:b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mmediately after Offertory pro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 I gaze on Knockn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oking o’er the mighty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where else I’d rather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 see His presence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en I see Benbulben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ising up into th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 don’t have to wonder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 see His presenc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 see His presence here (x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l around me ever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 see His presenc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en I hear a curlew 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r the sound of Church bells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 a fiddler’s sweet pl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 hear His presenc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t has been two thousand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ince our Saviour Christ w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ut we now He’s always 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 feel His presenc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r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 feel His presence here (x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l around us ever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 feel His presenc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me to my he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ome to my heart Lord Jes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each me to walk in your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ome to my heart Lord Je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ome to my heart to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Give me the peace and j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hat only you can b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ome to my heart Lord Jes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Give me a song to 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ill me with love Lord Jes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each me to walk in your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ill me with love Lord Je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ill me with love to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Give me the peace and jo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hat only you can b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ill me with loveLord Je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Give me a song to 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swer my prayer Lord Je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each me to walk in your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swer my prayer Lord Je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swer my prayer to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Give me the peace and j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hat only you can b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swer my prayer Lord Je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Give me a song to 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Guiding me, Guard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Guiding me, guarding me,  the Lord is by my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Guiding me, guarding me, the Lord upholds my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1. I lift up my eyes to the mount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From where shall come my hel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My help shall come from the Lord my G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Who made heaven and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2. May he never allow you to stu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Let him sleep not, your gu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No he sleeps not nor stumb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he Israel’s gu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3. The Lord is your guard and your sha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at your right side he st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By day the sun shall not smite you nor the moon in the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4. The Lord will guard you from evi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He will guard your so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The Lord will guard your going and c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Both now and for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How great is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How great is our G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How great is his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How great is our Go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Forever the s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1. He rolled back the waters of the mighty Red S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And he said “I’ll never leave you. Put your trust in me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2. He sent his son, Jesu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To set us all f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And he said: “I’ll never leave you. Put your trust in me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3. He gave us his Spi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And now we can se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And he said “I’ll never leave you. Put your trust in m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nus</cp:lastModifiedBy>
  <dcterms:modified xsi:type="dcterms:W3CDTF">2017-01-17T09:48:26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