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E64-6AF8-413E-9580-2C36A22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6EF-0F87-444C-8764-9204CE6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011-0147-4764-890A-A556ACD0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50C-AE7E-4DD7-91AF-A6D8DEC4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38A-60AB-4665-94B5-24148FB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3D1-9FE5-41E2-AD3F-E5DC2C6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C56-2641-43ED-8789-902050F3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EC0-2222-496A-85CE-199C63FE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CC7-98D8-415D-A09F-9996BFA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660-6A7F-4B62-AF17-8BB0B1B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6EA-E134-4EB4-BDAB-51C8E05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4C0-C7B8-4D82-B5F0-7A83C58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E8A-35CE-4998-9B90-238263207C0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ie/url?q=http://www.history.com/news/history-lists/11-things-you-may-not-know-about-ancient-egypt&amp;sa=U&amp;ei=ltrTVOWPC4r5UOLCgtgG&amp;ved=0CDsQ9QEwEw&amp;usg=AFQjCNFiiSijaKfEuWmngW6o9KWXD0Ex_A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0" spc="-1" strike="noStrike">
                <a:solidFill>
                  <a:srgbClr val="000000"/>
                </a:solidFill>
                <a:latin typeface="Arial"/>
              </a:rPr>
              <a:t>Egyptia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CAYD096ZCAMNF0G3CAV368ILCAXKR7VBCAGUDIB3CA2SJOQ1CAED796WCAJUL7A9CAN1VGPWCAKW9EDKCAUZ14L6CABAOFC0CAPINKQ3CAP2RHJRCAL6RJC0CAXHZQSKCA9E0N4LCAJ4HDMOCA83F2OE"/>
          <p:cNvPicPr/>
          <p:nvPr/>
        </p:nvPicPr>
        <p:blipFill>
          <a:blip r:embed="rId1"/>
          <a:stretch/>
        </p:blipFill>
        <p:spPr>
          <a:xfrm>
            <a:off x="468360" y="2201760"/>
            <a:ext cx="2722680" cy="225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4723920"/>
            <a:ext cx="665964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000" spc="-1" strike="noStrike">
                <a:solidFill>
                  <a:srgbClr val="000000"/>
                </a:solidFill>
                <a:latin typeface="Arial"/>
              </a:rPr>
              <a:t>By   Ell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ANd9GcRhiy7eexnuwN8emphtiOYZSky-Z6FhlTjHhWtpjfCm6-TL808KI_yK6M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2239920"/>
            <a:ext cx="30974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gyptians live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ir writing is very different to ours,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lled Hierogly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ook at ours compared to thei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260280"/>
            <a:ext cx="5256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32259[1]"/>
          <p:cNvPicPr/>
          <p:nvPr/>
        </p:nvPicPr>
        <p:blipFill>
          <a:blip r:embed="rId1"/>
          <a:stretch/>
        </p:blipFill>
        <p:spPr>
          <a:xfrm>
            <a:off x="4500720" y="1600200"/>
            <a:ext cx="410364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gradeoneloweranduppercasechart[1]"/>
          <p:cNvPicPr/>
          <p:nvPr/>
        </p:nvPicPr>
        <p:blipFill>
          <a:blip r:embed="rId2"/>
          <a:stretch/>
        </p:blipFill>
        <p:spPr>
          <a:xfrm>
            <a:off x="4500720" y="4013280"/>
            <a:ext cx="4032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takes over 20 yrs to build a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over 4000 people to build it!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36720" y="6093000"/>
            <a:ext cx="216000" cy="7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\\bbmirl10\home\mclobrie\Documents\untitled.png"/>
          <p:cNvPicPr/>
          <p:nvPr/>
        </p:nvPicPr>
        <p:blipFill>
          <a:blip r:embed="rId1"/>
          <a:stretch/>
        </p:blipFill>
        <p:spPr>
          <a:xfrm>
            <a:off x="971640" y="4076640"/>
            <a:ext cx="734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HARAO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 Ancient Egypt   the Pharaohs  ruled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ct Pharaohs were the most powerful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JCANIRNOKCAA5BLC0CA2F0CYRCADXH5AXCAEKGTMVCA4MG936CA0HROLZCAE04N34CAQSRF70CAM2WEEACA2BL94VCA1J26YQCASYZ81ECAWPIDHFCA4FIEG0CA83WJG1CABUPQG2CABXUCZPCAF04YXO"/>
          <p:cNvPicPr/>
          <p:nvPr/>
        </p:nvPicPr>
        <p:blipFill>
          <a:blip r:embed="rId1"/>
          <a:stretch/>
        </p:blipFill>
        <p:spPr>
          <a:xfrm>
            <a:off x="6227640" y="1916280"/>
            <a:ext cx="249264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ha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116000" y="1844640"/>
            <a:ext cx="142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1197000"/>
            <a:ext cx="6624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 ancient Egyp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oth men and women shaved their he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y  believed that this kept them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50920" y="3860640"/>
            <a:ext cx="40338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 Egypt they worship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BCAD37EN9CA5N6TJMCARL2B2OCA066BOTCABM8SLGCARPNJL9CAUNYSRGCA0QR451CA7EFJQBCAEHONB9CAP9GJI4CAOD1RHECAYC3V4ACA0TRQNXCA52Z9U2CAWN9P1FCACI49M8CALJE3RTCAQNGOWL"/>
          <p:cNvPicPr/>
          <p:nvPr/>
        </p:nvPicPr>
        <p:blipFill>
          <a:blip r:embed="rId1"/>
          <a:stretch/>
        </p:blipFill>
        <p:spPr>
          <a:xfrm>
            <a:off x="6372360" y="3860640"/>
            <a:ext cx="2071440" cy="2589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684360" y="5877000"/>
            <a:ext cx="42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18:46:30Z</dcterms:created>
  <dc:creator>Ellie</dc:creator>
  <dc:description/>
  <dc:language>en-US</dc:language>
  <cp:lastModifiedBy>mclobrie</cp:lastModifiedBy>
  <dcterms:modified xsi:type="dcterms:W3CDTF">2015-02-06T08:28:13Z</dcterms:modified>
  <cp:revision>15</cp:revision>
  <dc:subject/>
  <dc:title>Egyptians</dc:title>
</cp:coreProperties>
</file>