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4DA4-89D4-4F8F-8E7B-263526F2FA8D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6DE4-56C0-44A7-8679-CDDF9B4B5CE6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188F-A1DA-4A4D-A0D9-25F5191BB0B3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B1A2-54C9-440B-83EB-10BFAA5E1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7E42-FE27-4D44-9070-69B13969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B60B-EFB4-4D5F-B505-390D5603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6CFA-939E-415A-B1A3-1CAE556B3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5E82-1A13-400C-8E8B-94C6DB84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7D16-1C27-44D5-8141-77B1176E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8A8A-C669-407B-BD51-C5D3A014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DE46-9DB5-4576-BB6A-36303532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618F-7518-4C40-B13A-C2886F8A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1B98-E6DA-4F86-BCD8-137F4C4F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4FE7-047C-4E59-B307-3A0CA15D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6456-B6E4-456D-B037-1B2B157C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ACFF-464B-4B42-A692-C65EFBCF14CB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red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898989"/>
                </a:solidFill>
                <a:latin typeface="Calibri"/>
              </a:rPr>
              <a:t>By Dani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65200" y="1600200"/>
            <a:ext cx="8013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are my favourite predato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e angler fish’s lightbulb is made of …………… bacteri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How many adult humans can the puffer fish kil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ere are millions of predators in the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 predator is an animal that naturally preys on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o prey on means to hunt or ki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Some of my favourite predators are th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ngler Fis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Spitting Cob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uffer F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Angler F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692360" y="1666800"/>
            <a:ext cx="604836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ANGLER FIS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t has a lightbulb on its head to attract fish to 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e bulb is made by bioluminesce bacteria which flows through its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ey don’t get food very often so they the train for the opport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e female anglerfish grasps the male to become o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24670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pitting Cob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523880" y="1814400"/>
            <a:ext cx="60962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alibri"/>
              </a:rPr>
              <a:t>SPITTING </a:t>
            </a:r>
            <a:br>
              <a:rPr sz="3600"/>
            </a:br>
            <a:r>
              <a:rPr b="1" lang="en-IE" sz="3600" spc="-1" strike="noStrike">
                <a:solidFill>
                  <a:srgbClr val="000000"/>
                </a:solidFill>
                <a:latin typeface="Calibri"/>
              </a:rPr>
              <a:t>COB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Spitting cobras attack from 8 feet away with their poison sp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 Spitting cobra’s venom is one of the strongest venoms in the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 spitting cobra can only blind you if its venom hits your ey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e spiting cobra kills anyone who tries to destroy its n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2459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uffer F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684036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alibri"/>
              </a:rPr>
              <a:t>PUFFER </a:t>
            </a:r>
            <a:br>
              <a:rPr sz="3600"/>
            </a:br>
            <a:r>
              <a:rPr b="1" lang="en-IE" sz="36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 puffer fish can grow three times its size by sucking in 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uffer fish puff out their spikes to be safe from pred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 puffer fish can have enough poison to kill thirty adult hum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27097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1T13:12:04Z</dcterms:created>
  <dc:creator>gerard</dc:creator>
  <dc:description/>
  <dc:language>en-US</dc:language>
  <cp:lastModifiedBy>gerard</cp:lastModifiedBy>
  <dcterms:modified xsi:type="dcterms:W3CDTF">2015-05-07T20:26:05Z</dcterms:modified>
  <cp:revision>24</cp:revision>
  <dc:subject/>
  <dc:title>Predators</dc:title>
</cp:coreProperties>
</file>